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9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7A6C-F933-4A74-B4F3-9EEF89984951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5760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Core Concepts and No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s: C &amp; M Ch 1, 2, 3.1-3.3,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10" descr="YorkULogoHor(large)"/>
          <p:cNvPicPr/>
          <p:nvPr/>
        </p:nvPicPr>
        <p:blipFill>
          <a:blip r:embed="rId1"/>
          <a:stretch/>
        </p:blipFill>
        <p:spPr>
          <a:xfrm>
            <a:off x="7219800" y="0"/>
            <a:ext cx="19242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 are a special kind of term that allows arbitrary number of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empty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(a,b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dotted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a, b, c] = .(a,.(b,.(c,[]))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st of 3 compon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unct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uilds binary 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use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isplay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int internal representation of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first and rest of a list using the notation: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First | Rest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.g. ?- X = [a,b,c], X = [F|R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[a,b,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R = [b,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.g. X = [b], Y = a, Z = [Y|X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[b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Z = [a,b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fic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s an instance of the kind of pattern matching calle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if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t Prolog per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tries to find a way to instantiate the variables (substitute terms for them) that satisfies the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on this l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 can represent graph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-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[a|X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[a, a, a, a, a, a, a, a, a|…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notes an infinite or circular li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not allowed in first-order logic; a variable cannot denote a term and one of its subterms; but Prolog omits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chec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uilding a knowledge ba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used in a computation, facts and rules must be stored in the (dynamic)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s and rules get into the database throug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se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ul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tation loads facts and rules from a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sser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assert(human(ulyssus)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uly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 can be done dynam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retr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remove facts and rules from the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assignment, change state; avoid when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ul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consult(</a:t>
            </a:r>
            <a:r>
              <a:rPr b="0" lang="ja-JP" sz="2800" spc="-1" strike="noStrike">
                <a:solidFill>
                  <a:srgbClr val="063de8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mily.pl</a:t>
            </a:r>
            <a:r>
              <a:rPr b="0" lang="ja-JP" sz="2800" spc="-1" strike="noStrike">
                <a:solidFill>
                  <a:srgbClr val="063de8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s facts and rules from file family.p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[family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same 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[user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s you enter facts and rules from the ke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notation/meaning of Prolog progra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log program defines a set of relations, i.e. specifies which tuples of objects/terms belong to a particula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is is called a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larative programming is very different from usual procedural programming where programs perform many state changing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notation of Prolog program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Of(john,pau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Of(mary,pau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therOf(john,lis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arentOf(X,Y) :- fatherOf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arentOf(X,Y) :- motherOf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therOf is the relation {&lt;john,paul&gt;, &lt;mary,paul&gt;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relation associated with motherOf and parentOf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 as proced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 has form goal :-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or head is like name of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s on the RHS are like the body of the procedure, the sub-goals that have to be achieved to show that the goal ho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b-goals will be attempted left-to-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 succeeds if all sub-goals succ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clarative/logic programm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: write a program that is a logical theory about some domain and then query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well known instance is Pro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 constructs, terms and statements, are inherited from first order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ing valu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ing/querying a goal can instantiate its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ub-go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success can bind a variable within it, also binding the same variable in the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or instantiating a variable is giving it a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o passing values into or out of a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ing values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progra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otherOf(john,li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arentOf(X,Y) :- motherOf(X,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john,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lisa 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X,li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john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parentOf(X,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john, Y = lisa 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fixed input and output para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ational think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, formulate statements about function values as relational fact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ctorial(0,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ctorial(N,M):- K is N -1, factorial(K,L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M is N * 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mpose functions, e.g. Y = f(g(X)), you must name intermediat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g(X,Y):- g(X,Z), f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most everything is syntactically a ter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s are terms; what is the funct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are te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dfather(X,Y):- father(X,Z), father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functo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are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rithmetic func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retains arithmetic functions as functions (more intuitive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X </a:t>
            </a:r>
            <a:r>
              <a:rPr b="1" lang="en-US" sz="2400" spc="-1" strike="noStrike">
                <a:solidFill>
                  <a:srgbClr val="063de8"/>
                </a:solidFill>
                <a:latin typeface="Verdana"/>
              </a:rPr>
              <a:t>is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exp(1). % exp(1) = e</a:t>
            </a:r>
            <a:r>
              <a:rPr b="0" lang="en-US" sz="2400" spc="-1" strike="noStrike" baseline="30000">
                <a:solidFill>
                  <a:srgbClr val="063de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2.718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X is (4 + 2) * 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ssignme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pera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functors are represent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st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infix operators: is, =, +, *, /, mod, &gt;, &gt;=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-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and - are both prefix and inf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- as prefix is a command, used for decla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s have prece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fine our own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elp is sometimes helpfu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680" y="1676520"/>
            <a:ext cx="843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help(revers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reverse(+List1, -List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Reverse  the order  of the elements  in List1  and unify the  result with the elements of List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arg: arg is input and should be instanti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rg: arg is output and can be initially uninstantiated; if the query succeeds, the arg is instantiated with the "output" of the que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arg: arg can be either input or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line hel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help(list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help available for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apropos(list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rge/3                       Merge two sorted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end/3                      Concatenate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tion 11-1                  "lists:  List Manipulation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tion 15-2-1               "lis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?- help(append/3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end(?List1, ?List2, ?List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cceeds  when List3  unifies with  the concatenation  of List1 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2.   The  predicate can be  used with any instantiation 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ven three variable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[a,b],[c],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[a, b, c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X,[c],[a,b,c]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[a, b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append([a,b],[c],[a,b,d]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re exa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- append([a,b],X,Y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_G18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[a, b|_G187]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- append(X,Y,Z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_G181 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_G262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[_G262|_G181] 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= [_G262, _G26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= _G18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= [_G262, _G268|_G181]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end is an example of a reversible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adf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dicate (Richard 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ef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statements express relationships amo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are (a generalization) of the same notion in first order logic, i.e. a constant, a variable, or a function applied to some argument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john, john_smith, X, Node, _person, fatherOf(paul), date(25,10,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ther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functors;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rity 3; it takes 3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ible programm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predicates are steadf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gives correct answers even if unusual values are su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 g. variables for inputs, constants for out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steadfast predicates require specific arguments to be instantiated (input) or variables (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fic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matches terms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ify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m, i.e. applying a most general unifier to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stantiates variables as little as possible to make them match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?- X = f(Y,b,Z), X = f(a,V,W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X = f(a, b, _G18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Y =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Z = _G18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V =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W = _G18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relations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amily rel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b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parent(Parent, Child) :- mother(Parent, Chil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parent(Parent, Child) :- father(Parent, Chil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father('George', 'Elizabeth'). father('George', 'Margaret'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other('Mary', 'Elizabeth').  mother('Mary', 'Margaret').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ncoding of dis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nding all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| ?- parent(Parent, Child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Mary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Elizabeth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Mary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Margaret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George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Elizabeth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Parent = 'George'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Child = 'Margaret' 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Verdana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finds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trace]  ?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parent(Parent, Child1), parent(Parent, Child2), not(Child1 = Child2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8) parent(_G313, _G314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9) mother(_G313, _G314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8) parent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all: (9) mother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Elizabeth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o: (9) mother('Mary', _G317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9) mother('Mary', 'Margaret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Exit: (8) parent('Mary', 'Margaret') ? cre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Parent = 'Mary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hild1 = 'Elizabeth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Child2 = 'Margaret'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 query answering proces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ery is a conjunction of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to the query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ll term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cc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 in a quer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ccee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tches a fact in the datab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tches the head of a rule whose body succ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bstitution used to unify the term and the fact/head is applied to the rest of the qu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on query terms 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ft to right 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databases facts/rules that match are tried 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 to bott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on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enerating permut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ermutation P of a list L is a list whose first is some element E of L and whose rest is a permutation of L with E remo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] is a permutation of [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L,[E|PR]) :- select(E,L,R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permutation(R,P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lecting an element from a lis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elect an element from a list, can either select the first leaving the rest, or select some element from the rest and leaving the first plus the unselected elements from the r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olo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lect(X,[X|R],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lect(X,[Y|R],[Y|RS]):- select(X,R,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s begin with upper-case letter or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s and functors (symbols) begin with lower-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denote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terms are called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course(complexity,time(Monday,9,11),lecturer(patrick,dymond),location(LAS,3033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represent complex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(usually) have a tre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rting by the defini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 permutation that i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ort(L,P):- permutation(L,P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1,E2|R]) :- E1 &lt;= E2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rdered([E2|R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 and tes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L,RL) holds if RL is a list with the components of L rever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inary recursive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[],[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([F|R],RL):- reverse(R,RR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RR, [F], 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[F|R],L,[F|RL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(R,L,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ers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il recursive 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L,RL):- reverse(L,[],R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[],Acc,Ac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[F|R],Acc,RL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(R,[F|Acc],R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 call is last thing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void saving calls on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ing a logic puzzle with Pro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zebra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5 houses, occupied by politically-incorrect gentlemen of 5 different nationalities, who all have different coloured houses, keep different pets, drink different drinks, and smoke different  (now-extinct) brands of cigaret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glishman lives in a red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aniard keeps a d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wner of the green house drinks coff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vory house is just to the left of the green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o owns the zebra and who drinks wate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implem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 the 5 houses by a structure of 5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(Colour, Nationality, Pet, Drink, Cigaret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partial structure using variables, to be filled by the solu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constraints to instantiate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use build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0,[]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N,[house(Col, Nat, Pet, Drk, Cig)|List]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:- N&gt;0, N1 is N - 1, makehouses(N1,Lis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more cleanly with anonymous variabl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makehouses(N,[house(_, _, _, _, _)|List]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:- N&gt;0, N1 is N - 1, makehouses(N1,Lis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is this equivalent? (See p. 159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empty hous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makehouses(5, Li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ist = [house(_G233, _G234, _G235, _G236, _G237), house(_G245, _G246, _G247, _G248, _G249), house(_G257, _G258, _G259, _G260, _G261), house(_G269, _G270, _G271, _G272, _G273), house(_G281, _G282, _G283, _G284, _G285)]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glishman lives in a red hou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red, englishman, _, _, _) on List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aniard keeps a d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 _, spaniard, dog, _, _) on List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wner of the green house drinks coff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green, _, _, coffee, _) on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vory house is just to the left of the green house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sublist2( [house(ivory,           _,    _,      _,       _)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,house(green,           _,    _,      _,       _)], List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nextto(house(    _,           _,    _,      _, chesterfields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63de8"/>
                </a:solidFill>
                <a:latin typeface="Verdana"/>
              </a:rPr>
              <a:t>house(    _,           _,  fox,      _,         _), List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ining the on operat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user-defined infix operator that is a version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:- op(100,zfy,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List :- member(X,Li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ount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[X|_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on [_|R]:- X on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ac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like atomic formulas in first order log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tax is same as terms, but ending with a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therOf(paul,hen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ortal(ulyssu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kes(X,iceCrea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kes(mary,brotherOf(helen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s are implicitly universally quant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dicates for defining 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 to the left o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s next 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S,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[S1, S2], [S1, S2 | _])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ublist2(S, [_ | T]) :- sublist2(S, 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ext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ed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to(H1, H2, L) :- sublist2([H1, H2], 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to(H1, H2 ,L) :- sublist2([H2, H1], 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lating the constrai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vory house is just to the left of the green house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sublist2( [house(ivory,  _,  _,  _, _),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house(green,  _,  _,  _,  _)], List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esterfields smoker lives next to a house with a f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extto(house( _, _, _, _, chesterfields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_,  fox,  _, _), List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ooking for the zeb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owns the zebra and who drinks wat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find(ZebraOwner, WaterDrinker)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makehouses(5, List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red, englishman, _, _, _)   on Li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% all other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WaterDrinker, _, water, _)  on Li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house( _, ZebraOwner, zebra, _, _)  on L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 is generated and queried in the same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ither water or zebra are mentioned in the constrai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lving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[zebr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% zebra compiled 0.00 sec, 5,360 by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find(ZebraOwner, WaterDrink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ZebraOwner = japan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WaterDrinker = norwegian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finds solu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first 8 constrai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st = [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red, englishman, snail, _G251, old_gold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spaniard, dog, coffee, _G264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ivory, ukrainian, _G274, tea, _G276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_G285, _G286, _G287, _G288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yellow, _G297, _G298, _G299, kools)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solves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need to satisf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of the third house drinks mil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.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ist = [_, _, house( _, _, _, milk, _),_, _]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be done with current instantiation of List.  So Prolog wil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find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Prolog solves the puzz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que complete solution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 = [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yellow, norwegian, fox, water, kools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blue, ukrainian, horse, tea, chesterfields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red, englishman, snail, milk, old_gold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ivory, spaniard, dog, orange, lucky_strike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ouse(green, japanese, zebra, coffee, parliaments)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ourse web page for code of the exam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condition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 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∀x Human(x) → Mortal(x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humans are mor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daughter(X,Y) :- father(Y,X), female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conj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ikes(mary,X) :- isSweet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ncestor(X,Y) :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ther(X,Z), ancestor(Z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s are universally quantified from outside; can think of variables that appear only in rule body as existentially quantif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ry asks whether a given statement is true, i.e. whether it follows from the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ulyssus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 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human(ulyssus).  human(penelop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od(zeu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answers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X).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ulyssus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pene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s in queries are existentially quantified; can be used to retrieve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have conjunctive querie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mortal(X), mortal(Y), not(X = 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09-17T14:03:13Z</cp:lastPrinted>
  <dcterms:modified xsi:type="dcterms:W3CDTF">2018-09-26T20:19:10Z</dcterms:modified>
  <cp:revision>132</cp:revision>
  <dc:subject/>
  <dc:title>Project Gutenberg;text to screen</dc:title>
</cp:coreProperties>
</file>