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9601200" cy="7315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9601200" cy="731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160880" cy="3650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3"/>
          </p:nvPr>
        </p:nvSpPr>
        <p:spPr>
          <a:xfrm>
            <a:off x="5438880" y="0"/>
            <a:ext cx="4160880" cy="3650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Lucida Sans Unicode"/>
              </a:rPr>
              <a:t>Click to move the slide</a:t>
            </a:r>
            <a:endParaRPr b="1" lang="en-US" sz="36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960480" y="3474720"/>
            <a:ext cx="7680240" cy="32907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4"/>
          </p:nvPr>
        </p:nvSpPr>
        <p:spPr>
          <a:xfrm>
            <a:off x="0" y="6948000"/>
            <a:ext cx="4160880" cy="365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5"/>
          </p:nvPr>
        </p:nvSpPr>
        <p:spPr>
          <a:xfrm>
            <a:off x="5438880" y="6948000"/>
            <a:ext cx="4160880" cy="365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3B6643-81DC-4A00-9FDA-FE524D66FA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3366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5438880" y="6948360"/>
            <a:ext cx="41608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A58A6A-7AC2-470B-B8BA-17B780F1A8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60480" y="3474720"/>
            <a:ext cx="768024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5438880" y="6948360"/>
            <a:ext cx="41608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9F27FF-48F2-4784-AD42-B858681F38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60480" y="3474720"/>
            <a:ext cx="768024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5438880" y="6948360"/>
            <a:ext cx="41608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A6901A-F8DD-4DAC-B89E-E826C2151D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60480" y="3474720"/>
            <a:ext cx="768024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5438880" y="6948360"/>
            <a:ext cx="41608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4D3C69-E72C-4241-ABE1-DF31433F81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60480" y="3474720"/>
            <a:ext cx="768024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5438880" y="6948360"/>
            <a:ext cx="41608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84F933-0528-4BDB-9A9D-5CAE2E3F72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60480" y="3474720"/>
            <a:ext cx="768024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5438880" y="6948360"/>
            <a:ext cx="41608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BDFF17-42A0-4288-8703-4A36F95950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60480" y="3474720"/>
            <a:ext cx="768024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5438880" y="6948360"/>
            <a:ext cx="41608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00FD83-BD1F-4486-9136-6696A4E70B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60480" y="3474720"/>
            <a:ext cx="768024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5438880" y="6948360"/>
            <a:ext cx="41608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3E5BF1-E320-46A3-80C6-65CF17DDDD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60480" y="3474720"/>
            <a:ext cx="768024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5438880" y="6948360"/>
            <a:ext cx="41608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F87A68-0FB6-4EA4-9157-790BA9FEEC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60480" y="3474720"/>
            <a:ext cx="768024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5438880" y="6948360"/>
            <a:ext cx="41608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4815D8-2718-4D8D-9B93-0C8D0F786D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960480" y="3474720"/>
            <a:ext cx="768024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5438880" y="6948360"/>
            <a:ext cx="41608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5065E4-666A-4D44-8232-B2C1DD64FA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60480" y="3474720"/>
            <a:ext cx="768024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5438880" y="6948360"/>
            <a:ext cx="41608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9365F9-6C88-43A3-904D-33A737207C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60480" y="3474720"/>
            <a:ext cx="768024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5438880" y="6948360"/>
            <a:ext cx="41608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334138-3F9D-495B-8BD2-FC1B63719C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960480" y="3474720"/>
            <a:ext cx="768024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5438880" y="6948360"/>
            <a:ext cx="41608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896940-F350-448B-8347-8A7715C894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60480" y="3474720"/>
            <a:ext cx="768024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5438880" y="6948360"/>
            <a:ext cx="41608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20C325-C2BA-415E-B28F-D34AE27C98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60480" y="3474720"/>
            <a:ext cx="768024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5438880" y="6948360"/>
            <a:ext cx="41608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CE85CD-001E-43E4-B9B5-342137A260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60480" y="3474720"/>
            <a:ext cx="768024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5438880" y="6948360"/>
            <a:ext cx="41608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5051AF-50E9-4658-9528-7255980D5B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960480" y="3474720"/>
            <a:ext cx="768024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5438880" y="6948360"/>
            <a:ext cx="41608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8B85B1-6544-4780-A859-4615E51FC2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960480" y="3474720"/>
            <a:ext cx="768024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5438880" y="6948360"/>
            <a:ext cx="41608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B3F577-C2BE-41E0-8211-2F743770D1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60480" y="3474720"/>
            <a:ext cx="768024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5438880" y="6948360"/>
            <a:ext cx="41608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2AF921-78F1-49EA-B8C6-AFAF51EFA7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60480" y="3474720"/>
            <a:ext cx="768024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5438880" y="6948360"/>
            <a:ext cx="41608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6E3A6F-D807-43B5-898C-B882A6219B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60480" y="3474720"/>
            <a:ext cx="768024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5438880" y="6948360"/>
            <a:ext cx="41608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AB9ADE-BC6D-4CB8-9505-704C120293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60480" y="3474720"/>
            <a:ext cx="768024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5438880" y="6948360"/>
            <a:ext cx="41608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A76586-246B-44ED-9805-19220E789A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60480" y="3474720"/>
            <a:ext cx="7680240" cy="330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5438880" y="6948360"/>
            <a:ext cx="41608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952CB7-6559-43BA-AA4B-DFB97D8183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60480" y="3474720"/>
            <a:ext cx="768024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5438880" y="6948360"/>
            <a:ext cx="41608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BB1199-A0E2-496D-9C2E-425307AE4C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60480" y="3474720"/>
            <a:ext cx="768024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5438880" y="6948360"/>
            <a:ext cx="41608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835C3D-FD16-4314-9383-8CD2020F01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60480" y="3474720"/>
            <a:ext cx="768024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5438880" y="6948360"/>
            <a:ext cx="41608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63D30D-0AE1-4B4D-93E7-1C1E914947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60480" y="3474720"/>
            <a:ext cx="768024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5438880" y="6948360"/>
            <a:ext cx="41608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A68B53-F601-4C23-B46B-66473A6954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60480" y="3474720"/>
            <a:ext cx="768024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5438880" y="6948360"/>
            <a:ext cx="41608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082660-81C3-4F40-ACD1-0B33A58C49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60480" y="3474720"/>
            <a:ext cx="768024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5D54A6-416D-44B5-8742-93E4E8995D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8680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34880"/>
            <a:ext cx="868680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86D297-7C1F-431C-B68D-EDDF93224F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423900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447920"/>
            <a:ext cx="423900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34880"/>
            <a:ext cx="423900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34880"/>
            <a:ext cx="423900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E03CE4-7BDF-4AED-8CFD-EC5341BAB6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279684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447920"/>
            <a:ext cx="279684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447920"/>
            <a:ext cx="279684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34880"/>
            <a:ext cx="279684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34880"/>
            <a:ext cx="279684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34880"/>
            <a:ext cx="279684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BF3EC2-D1D8-466D-9BDD-EF6C7D2D93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228600" y="144792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42390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80000" y="1447920"/>
            <a:ext cx="42390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Lucida Sans Unicode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423900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80000" y="1447920"/>
            <a:ext cx="42390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228600" y="4034880"/>
            <a:ext cx="423900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44792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E2F0C2-A99A-42CF-813C-9EA0D85FA0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42390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0000" y="1447920"/>
            <a:ext cx="423900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80000" y="4034880"/>
            <a:ext cx="423900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423900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80000" y="1447920"/>
            <a:ext cx="423900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228600" y="4034880"/>
            <a:ext cx="868680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8680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228600" y="4034880"/>
            <a:ext cx="868680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423900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0000" y="1447920"/>
            <a:ext cx="423900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28600" y="4034880"/>
            <a:ext cx="423900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80000" y="4034880"/>
            <a:ext cx="423900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279684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65840" y="1447920"/>
            <a:ext cx="279684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102720" y="1447920"/>
            <a:ext cx="279684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228600" y="4034880"/>
            <a:ext cx="279684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65840" y="4034880"/>
            <a:ext cx="279684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102720" y="4034880"/>
            <a:ext cx="279684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D0D2DA-8592-4BFD-9362-13647DC868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42390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447920"/>
            <a:ext cx="42390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0C72D6-45AD-42BA-B659-C3AD1414E4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A0D0EC-3093-43C6-AA8D-08B7AE772D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CB5150-75EF-4332-A24C-818F9F08EF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423900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447920"/>
            <a:ext cx="42390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34880"/>
            <a:ext cx="423900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FA8CEF-B2B8-4B9E-8D7A-D3FB7E9972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42390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447920"/>
            <a:ext cx="423900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34880"/>
            <a:ext cx="423900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117269-57D1-4D8E-ABB9-6E83180E4B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423900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447920"/>
            <a:ext cx="423900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34880"/>
            <a:ext cx="868680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82A2E0-1816-46AB-A4B6-BD0BA68395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Lucida Sans Unicode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44792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68200" indent="-268200">
              <a:spcBef>
                <a:spcPts val="700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544680" indent="-274680">
              <a:spcBef>
                <a:spcPts val="700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lvl="2" marL="808200" indent="-262080">
              <a:spcBef>
                <a:spcPts val="700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lvl="3" marL="1081080" indent="-271440">
              <a:spcBef>
                <a:spcPts val="700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lvl="4" marL="1357200" indent="-274680">
              <a:spcBef>
                <a:spcPts val="700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lvl="5" marL="1357200" indent="-274680">
              <a:spcBef>
                <a:spcPts val="700"/>
              </a:spcBef>
              <a:buClr>
                <a:srgbClr val="000000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lvl="6" marL="1357200" indent="-274680">
              <a:spcBef>
                <a:spcPts val="700"/>
              </a:spcBef>
              <a:buClr>
                <a:srgbClr val="000000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613720" y="6411960"/>
            <a:ext cx="463680" cy="4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5f5f5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F767A-449C-458E-B94C-0493B6704D97}" type="slidenum">
              <a:rPr b="1" lang="en-US" sz="1800" spc="-1" strike="noStrike">
                <a:solidFill>
                  <a:srgbClr val="5f5f5f"/>
                </a:solidFill>
                <a:latin typeface="Lucida Sans Unicode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42840" y="6524280"/>
            <a:ext cx="4133880" cy="1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Bookman Old Styl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Bookman Old Style"/>
              </a:rPr>
              <a:t>EECS 3401 Fall 2018 Fahiem Bacchus &amp; Yves Lesperance</a:t>
            </a:r>
            <a:endParaRPr b="0" lang="en-US" sz="800" spc="-1" strike="noStrike">
              <a:solidFill>
                <a:srgbClr val="003366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4" descr="logo"/>
          <p:cNvPicPr/>
          <p:nvPr/>
        </p:nvPicPr>
        <p:blipFill>
          <a:blip r:embed="rId2"/>
          <a:stretch/>
        </p:blipFill>
        <p:spPr>
          <a:xfrm>
            <a:off x="0" y="0"/>
            <a:ext cx="828720" cy="41904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Lucida Sans Unicode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28600" y="144792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68200" indent="-268200">
              <a:spcBef>
                <a:spcPts val="700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544680" indent="-274680">
              <a:spcBef>
                <a:spcPts val="700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lvl="2" marL="808200" indent="-262080">
              <a:spcBef>
                <a:spcPts val="700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lvl="3" marL="1081080" indent="-271440">
              <a:spcBef>
                <a:spcPts val="700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lvl="4" marL="1357200" indent="-274680">
              <a:spcBef>
                <a:spcPts val="700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lvl="5" marL="1357200" indent="-274680">
              <a:spcBef>
                <a:spcPts val="700"/>
              </a:spcBef>
              <a:buClr>
                <a:srgbClr val="000000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lvl="6" marL="1357200" indent="-274680">
              <a:spcBef>
                <a:spcPts val="700"/>
              </a:spcBef>
              <a:buClr>
                <a:srgbClr val="000000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Slide Number Placeholder 3"/>
          <p:cNvSpPr/>
          <p:nvPr/>
        </p:nvSpPr>
        <p:spPr>
          <a:xfrm>
            <a:off x="8169480" y="6411960"/>
            <a:ext cx="13525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DF887-D623-4391-BC83-DFD37A8246C9}" type="slidenum">
              <a:rPr b="1" lang="en-US" sz="1800" spc="-1" strike="noStrike">
                <a:solidFill>
                  <a:srgbClr val="5f5f5f"/>
                </a:solidFill>
                <a:latin typeface="Lucida Sans Unicode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87" name="Footer Placeholder 4"/>
          <p:cNvSpPr/>
          <p:nvPr/>
        </p:nvSpPr>
        <p:spPr>
          <a:xfrm>
            <a:off x="2743200" y="6524640"/>
            <a:ext cx="4133880" cy="1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Bookman Old Style"/>
              </a:rPr>
              <a:t>EECS 3401 Fall 2018 Fahiem Bacchus &amp; Yves Lesperance</a:t>
            </a:r>
            <a:endParaRPr b="0" lang="en-US" sz="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3366"/>
                </a:solidFill>
                <a:latin typeface="Lucida Sans Unicode"/>
              </a:rPr>
              <a:t>CSE 3401: Intro to AI &amp; LP</a:t>
            </a:r>
            <a:br>
              <a:rPr sz="3200"/>
            </a:br>
            <a:r>
              <a:rPr b="1" lang="en-CA" sz="3200" spc="-1" strike="noStrike">
                <a:solidFill>
                  <a:srgbClr val="003366"/>
                </a:solidFill>
                <a:latin typeface="Lucida Sans Unicode"/>
              </a:rPr>
              <a:t> Informed Search</a:t>
            </a:r>
            <a:endParaRPr b="1" lang="en-US" sz="32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68200" indent="-268200">
              <a:spcBef>
                <a:spcPts val="700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3366"/>
                </a:solidFill>
                <a:latin typeface="Lucida Sans Unicode"/>
              </a:rPr>
              <a:t>Required Readings: Chapter 3, Sections 5 and 6, and Chapter 4, Section 1.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Slide Number Placeholder 3"/>
          <p:cNvSpPr/>
          <p:nvPr/>
        </p:nvSpPr>
        <p:spPr>
          <a:xfrm>
            <a:off x="8169480" y="6411960"/>
            <a:ext cx="13525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BCA80-E10F-43B6-ADCA-53C4693BBD35}" type="slidenum">
              <a:rPr b="1" lang="en-US" sz="1800" spc="-1" strike="noStrike">
                <a:solidFill>
                  <a:srgbClr val="5f5f5f"/>
                </a:solidFill>
                <a:latin typeface="Lucida Sans Unicode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137" name="Footer Placeholder 4"/>
          <p:cNvSpPr/>
          <p:nvPr/>
        </p:nvSpPr>
        <p:spPr>
          <a:xfrm>
            <a:off x="2743200" y="6524640"/>
            <a:ext cx="4133880" cy="1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Bookman Old Style"/>
              </a:rPr>
              <a:t>EECS 3401 Fall 2018 Fahiem Bacchus &amp; Yves Lesperance</a:t>
            </a:r>
            <a:endParaRPr b="0" lang="en-US" sz="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Lucida Sans Unicode"/>
              </a:rPr>
              <a:t>Consistency/monotonicity.</a:t>
            </a:r>
            <a:endParaRPr b="1" lang="en-US" sz="36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440560" cy="477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68200" indent="-268200">
              <a:spcBef>
                <a:spcPts val="700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Is a stronger condition than h(n) ≤  h*(n). 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marL="268200" indent="-268200">
              <a:spcBef>
                <a:spcPts val="700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CA" sz="2800" spc="-1" strike="noStrike">
                <a:solidFill>
                  <a:srgbClr val="000000"/>
                </a:solidFill>
                <a:latin typeface="Lucida Sans Unicode"/>
              </a:rPr>
              <a:t>A </a:t>
            </a:r>
            <a:r>
              <a:rPr b="0" lang="en-CA" sz="2800" spc="-1" strike="noStrike">
                <a:solidFill>
                  <a:srgbClr val="fc0128"/>
                </a:solidFill>
                <a:latin typeface="Lucida Sans Unicode"/>
              </a:rPr>
              <a:t>monotone/consistent</a:t>
            </a:r>
            <a:r>
              <a:rPr b="0" lang="en-CA" sz="2800" spc="-1" strike="noStrike">
                <a:solidFill>
                  <a:srgbClr val="000000"/>
                </a:solidFill>
                <a:latin typeface="Lucida Sans Unicode"/>
              </a:rPr>
              <a:t> heuristic satisfies the triangle inequality (for all nodes n1,n2): 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marL="268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c0128"/>
                </a:solidFill>
                <a:latin typeface="Lucida Sans Unicode"/>
              </a:rPr>
              <a:t>	</a:t>
            </a:r>
            <a:r>
              <a:rPr b="0" lang="en-CA" sz="2800" spc="-1" strike="noStrike">
                <a:solidFill>
                  <a:srgbClr val="fc0128"/>
                </a:solidFill>
                <a:latin typeface="Lucida Sans Unicode"/>
              </a:rPr>
              <a:t>	</a:t>
            </a:r>
            <a:r>
              <a:rPr b="0" lang="en-CA" sz="2800" spc="-1" strike="noStrike">
                <a:solidFill>
                  <a:srgbClr val="fc0128"/>
                </a:solidFill>
                <a:latin typeface="Lucida Sans Unicode"/>
              </a:rPr>
              <a:t>	</a:t>
            </a:r>
            <a:r>
              <a:rPr b="0" lang="en-CA" sz="2800" spc="-1" strike="noStrike">
                <a:solidFill>
                  <a:srgbClr val="fc0128"/>
                </a:solidFill>
                <a:latin typeface="Lucida Sans Unicode"/>
              </a:rPr>
              <a:t>h(n1) ≤ c(n1 </a:t>
            </a:r>
            <a:r>
              <a:rPr b="0" lang="en-US" sz="2800" spc="-1" strike="noStrike">
                <a:solidFill>
                  <a:srgbClr val="fc0128"/>
                </a:solidFill>
                <a:latin typeface="Lucida Sans Unicode"/>
              </a:rPr>
              <a:t>→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CA" sz="2800" spc="-1" strike="noStrike">
                <a:solidFill>
                  <a:srgbClr val="fc0128"/>
                </a:solidFill>
                <a:latin typeface="Lucida Sans Unicode"/>
              </a:rPr>
              <a:t>n2) + h(n2)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544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marL="268200" indent="-268200">
              <a:spcBef>
                <a:spcPts val="700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Note that there might be more than one transition (action) between n1 and n2, the inequality must hold for all of them.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marL="268200" indent="-268200">
              <a:spcBef>
                <a:spcPts val="700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As we will see, monotonicity implies admissibility.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3"/>
          <p:cNvSpPr/>
          <p:nvPr/>
        </p:nvSpPr>
        <p:spPr>
          <a:xfrm>
            <a:off x="8169480" y="6411960"/>
            <a:ext cx="13525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7D0E8-CB2C-4ADC-984F-22B2C80F0E49}" type="slidenum">
              <a:rPr b="1" lang="en-US" sz="1800" spc="-1" strike="noStrike">
                <a:solidFill>
                  <a:srgbClr val="5f5f5f"/>
                </a:solidFill>
                <a:latin typeface="Lucida Sans Unicode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141" name="Footer Placeholder 4"/>
          <p:cNvSpPr/>
          <p:nvPr/>
        </p:nvSpPr>
        <p:spPr>
          <a:xfrm>
            <a:off x="2743200" y="6524640"/>
            <a:ext cx="4133880" cy="1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Bookman Old Style"/>
              </a:rPr>
              <a:t>EECS 3401 Fall 2018 Fahiem Bacchus &amp; Yves Lesperance</a:t>
            </a:r>
            <a:endParaRPr b="0" lang="en-US" sz="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Lucida Sans Unicode"/>
              </a:rPr>
              <a:t>Intuition behind admissibility</a:t>
            </a:r>
            <a:endParaRPr b="1" lang="en-US" sz="36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1280" y="1267920"/>
            <a:ext cx="8153280" cy="477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68200" indent="-268200">
              <a:spcBef>
                <a:spcPts val="799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h(n) ≤  h*(n) means that the search won’t miss any promising paths.</a:t>
            </a:r>
            <a:endParaRPr b="0" lang="en-US" sz="32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544680" indent="-274680">
              <a:spcBef>
                <a:spcPts val="700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If it really is cheap to get to a goal via n (i.e., both g(n) and h*(n) are low), then f(n) = g(n) + h(n) will also be low, and the search won’t ignore n in favor of more expensive options. 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544680" indent="-274680">
              <a:spcBef>
                <a:spcPts val="700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This can be formalized to show that admissibility implies optimality.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Slide Number Placeholder 3"/>
          <p:cNvSpPr/>
          <p:nvPr/>
        </p:nvSpPr>
        <p:spPr>
          <a:xfrm>
            <a:off x="8169480" y="6411960"/>
            <a:ext cx="13525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87D7F-528C-464B-8EE8-6B74DD4E8516}" type="slidenum">
              <a:rPr b="1" lang="en-US" sz="1800" spc="-1" strike="noStrike">
                <a:solidFill>
                  <a:srgbClr val="5f5f5f"/>
                </a:solidFill>
                <a:latin typeface="Lucida Sans Unicode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145" name="Footer Placeholder 4"/>
          <p:cNvSpPr/>
          <p:nvPr/>
        </p:nvSpPr>
        <p:spPr>
          <a:xfrm>
            <a:off x="2743200" y="6524640"/>
            <a:ext cx="4133880" cy="1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Bookman Old Style"/>
              </a:rPr>
              <a:t>EECS 3401 Fall 2018 Fahiem Bacchus &amp; Yves Lesperance</a:t>
            </a:r>
            <a:endParaRPr b="0" lang="en-US" sz="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Lucida Sans Unicode"/>
              </a:rPr>
              <a:t>Intuition behind monotonicity</a:t>
            </a:r>
            <a:endParaRPr b="1" lang="en-US" sz="36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11280" y="1267920"/>
            <a:ext cx="8153280" cy="477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68200" indent="-268200">
              <a:spcBef>
                <a:spcPts val="799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Lucida Sans Unicode"/>
              </a:rPr>
              <a:t>h(n1) ≤ c(n1→n2) + h(n2)</a:t>
            </a:r>
            <a:endParaRPr b="0" lang="en-US" sz="32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544680" indent="-274680">
              <a:spcBef>
                <a:spcPts val="700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This says something similar, but in addition one won’t be “locally” mislead. See next example. 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Slide Number Placeholder 3"/>
          <p:cNvSpPr/>
          <p:nvPr/>
        </p:nvSpPr>
        <p:spPr>
          <a:xfrm>
            <a:off x="8169480" y="6411960"/>
            <a:ext cx="13525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B2E35-B3E3-407E-901C-D908F03356A0}" type="slidenum">
              <a:rPr b="1" lang="en-US" sz="1800" spc="-1" strike="noStrike">
                <a:solidFill>
                  <a:srgbClr val="5f5f5f"/>
                </a:solidFill>
                <a:latin typeface="Lucida Sans Unicode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149" name="Footer Placeholder 4"/>
          <p:cNvSpPr/>
          <p:nvPr/>
        </p:nvSpPr>
        <p:spPr>
          <a:xfrm>
            <a:off x="2743200" y="6524640"/>
            <a:ext cx="4133880" cy="1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Bookman Old Style"/>
              </a:rPr>
              <a:t>EECS 3401 Fall 2018 Fahiem Bacchus &amp; Yves Lesperance</a:t>
            </a:r>
            <a:endParaRPr b="0" lang="en-US" sz="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 Unicode"/>
              </a:rPr>
              <a:t>Example: admissible but nonmonotonic</a:t>
            </a:r>
            <a:endParaRPr b="1" lang="en-US" sz="32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94920" y="1123560"/>
            <a:ext cx="8280360" cy="28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68200" indent="-268200">
              <a:lnSpc>
                <a:spcPct val="80000"/>
              </a:lnSpc>
              <a:spcBef>
                <a:spcPts val="349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The following </a:t>
            </a:r>
            <a:r>
              <a:rPr b="0" i="1" lang="en-US" sz="1600" spc="-1" strike="noStrike">
                <a:solidFill>
                  <a:srgbClr val="000000"/>
                </a:solidFill>
                <a:latin typeface="Lucida Sans Unicode"/>
              </a:rPr>
              <a:t>h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 is not consistent since </a:t>
            </a:r>
            <a:r>
              <a:rPr b="0" i="1" lang="en-US" sz="1400" spc="-1" strike="noStrike">
                <a:solidFill>
                  <a:srgbClr val="000000"/>
                </a:solidFill>
                <a:latin typeface="Lucida Sans Unicode"/>
              </a:rPr>
              <a:t>h(n2)&gt;c(n2</a:t>
            </a:r>
            <a:r>
              <a:rPr b="0" lang="en-CA" sz="1400" spc="-1" strike="noStrike">
                <a:solidFill>
                  <a:srgbClr val="000000"/>
                </a:solidFill>
                <a:latin typeface="Lucida Sans Unicode"/>
              </a:rPr>
              <a:t>→</a:t>
            </a:r>
            <a:r>
              <a:rPr b="0" i="1" lang="en-US" sz="1400" spc="-1" strike="noStrike">
                <a:solidFill>
                  <a:srgbClr val="000000"/>
                </a:solidFill>
                <a:latin typeface="Lucida Sans Unicode"/>
              </a:rPr>
              <a:t>n4)+h(n4). But it is admissible.</a:t>
            </a:r>
            <a:endParaRPr b="0" lang="en-US" sz="14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152" name="Oval 4"/>
          <p:cNvSpPr/>
          <p:nvPr/>
        </p:nvSpPr>
        <p:spPr>
          <a:xfrm>
            <a:off x="6040440" y="1774800"/>
            <a:ext cx="792000" cy="504720"/>
          </a:xfrm>
          <a:prstGeom prst="ellipse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153" name="Oval 5"/>
          <p:cNvSpPr/>
          <p:nvPr/>
        </p:nvSpPr>
        <p:spPr>
          <a:xfrm>
            <a:off x="5103720" y="2495520"/>
            <a:ext cx="647640" cy="503280"/>
          </a:xfrm>
          <a:prstGeom prst="ellipse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n1</a:t>
            </a:r>
            <a:endParaRPr b="0" lang="en-US" sz="1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154" name="Oval 6"/>
          <p:cNvSpPr/>
          <p:nvPr/>
        </p:nvSpPr>
        <p:spPr>
          <a:xfrm>
            <a:off x="5103720" y="3287880"/>
            <a:ext cx="647640" cy="502920"/>
          </a:xfrm>
          <a:prstGeom prst="ellipse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n3</a:t>
            </a:r>
            <a:endParaRPr b="0" lang="en-US" sz="1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155" name="Oval 7"/>
          <p:cNvSpPr/>
          <p:nvPr/>
        </p:nvSpPr>
        <p:spPr>
          <a:xfrm>
            <a:off x="6904080" y="2495520"/>
            <a:ext cx="647640" cy="503280"/>
          </a:xfrm>
          <a:prstGeom prst="ellipse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n2</a:t>
            </a:r>
            <a:endParaRPr b="0" lang="en-US" sz="1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156" name="Oval 8"/>
          <p:cNvSpPr/>
          <p:nvPr/>
        </p:nvSpPr>
        <p:spPr>
          <a:xfrm>
            <a:off x="6113520" y="4438800"/>
            <a:ext cx="647640" cy="502920"/>
          </a:xfrm>
          <a:prstGeom prst="ellipse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Goal</a:t>
            </a:r>
            <a:endParaRPr b="0" lang="en-US" sz="1800" spc="-1" strike="noStrike">
              <a:solidFill>
                <a:srgbClr val="003366"/>
              </a:solidFill>
              <a:latin typeface="Lucida Sans Unicode"/>
            </a:endParaRPr>
          </a:p>
        </p:txBody>
      </p:sp>
      <p:cxnSp>
        <p:nvCxnSpPr>
          <p:cNvPr id="157" name="AutoShape 9"/>
          <p:cNvCxnSpPr>
            <a:stCxn id="152" idx="3"/>
            <a:endCxn id="153" idx="7"/>
          </p:cNvCxnSpPr>
          <p:nvPr/>
        </p:nvCxnSpPr>
        <p:spPr>
          <a:xfrm flipH="1">
            <a:off x="5655600" y="2205000"/>
            <a:ext cx="500760" cy="364320"/>
          </a:xfrm>
          <a:prstGeom prst="straightConnector1">
            <a:avLst/>
          </a:prstGeom>
          <a:ln w="28440">
            <a:solidFill>
              <a:srgbClr val="fc0128"/>
            </a:solidFill>
            <a:miter/>
            <a:tailEnd len="med" type="triangle" w="med"/>
          </a:ln>
        </p:spPr>
      </p:cxnSp>
      <p:cxnSp>
        <p:nvCxnSpPr>
          <p:cNvPr id="158" name="AutoShape 10"/>
          <p:cNvCxnSpPr>
            <a:stCxn id="152" idx="5"/>
            <a:endCxn id="155" idx="1"/>
          </p:cNvCxnSpPr>
          <p:nvPr/>
        </p:nvCxnSpPr>
        <p:spPr>
          <a:xfrm>
            <a:off x="6716880" y="2205000"/>
            <a:ext cx="282960" cy="364320"/>
          </a:xfrm>
          <a:prstGeom prst="straightConnector1">
            <a:avLst/>
          </a:prstGeom>
          <a:ln w="28440">
            <a:solidFill>
              <a:srgbClr val="00ae00"/>
            </a:solidFill>
            <a:miter/>
            <a:tailEnd len="med" type="triangle" w="med"/>
          </a:ln>
        </p:spPr>
      </p:cxnSp>
      <p:cxnSp>
        <p:nvCxnSpPr>
          <p:cNvPr id="159" name="AutoShape 11"/>
          <p:cNvCxnSpPr>
            <a:stCxn id="153" idx="4"/>
            <a:endCxn id="154" idx="0"/>
          </p:cNvCxnSpPr>
          <p:nvPr/>
        </p:nvCxnSpPr>
        <p:spPr>
          <a:xfrm>
            <a:off x="5427360" y="2998440"/>
            <a:ext cx="1080" cy="289440"/>
          </a:xfrm>
          <a:prstGeom prst="straightConnector1">
            <a:avLst/>
          </a:prstGeom>
          <a:ln w="28440">
            <a:solidFill>
              <a:srgbClr val="fc0128"/>
            </a:solidFill>
            <a:miter/>
            <a:tailEnd len="med" type="triangle" w="med"/>
          </a:ln>
        </p:spPr>
      </p:cxnSp>
      <p:cxnSp>
        <p:nvCxnSpPr>
          <p:cNvPr id="160" name="AutoShape 12"/>
          <p:cNvCxnSpPr>
            <a:stCxn id="161" idx="4"/>
            <a:endCxn id="156" idx="7"/>
          </p:cNvCxnSpPr>
          <p:nvPr/>
        </p:nvCxnSpPr>
        <p:spPr>
          <a:xfrm flipH="1">
            <a:off x="6665400" y="3790800"/>
            <a:ext cx="564480" cy="721440"/>
          </a:xfrm>
          <a:prstGeom prst="straightConnector1">
            <a:avLst/>
          </a:prstGeom>
          <a:ln w="28440">
            <a:solidFill>
              <a:srgbClr val="00ae00"/>
            </a:solidFill>
            <a:miter/>
            <a:tailEnd len="med" type="triangle" w="med"/>
          </a:ln>
        </p:spPr>
      </p:cxnSp>
      <p:cxnSp>
        <p:nvCxnSpPr>
          <p:cNvPr id="162" name="AutoShape 13"/>
          <p:cNvCxnSpPr>
            <a:stCxn id="154" idx="5"/>
            <a:endCxn id="156" idx="1"/>
          </p:cNvCxnSpPr>
          <p:nvPr/>
        </p:nvCxnSpPr>
        <p:spPr>
          <a:xfrm>
            <a:off x="5656320" y="3718080"/>
            <a:ext cx="552960" cy="794160"/>
          </a:xfrm>
          <a:prstGeom prst="straightConnector1">
            <a:avLst/>
          </a:prstGeom>
          <a:ln w="28440">
            <a:solidFill>
              <a:srgbClr val="fc0128"/>
            </a:solidFill>
            <a:miter/>
            <a:tailEnd len="med" type="triangle" w="med"/>
          </a:ln>
        </p:spPr>
      </p:cxnSp>
      <p:sp>
        <p:nvSpPr>
          <p:cNvPr id="163" name="Text Box 14"/>
          <p:cNvSpPr/>
          <p:nvPr/>
        </p:nvSpPr>
        <p:spPr>
          <a:xfrm>
            <a:off x="5730840" y="2197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164" name="Text Box 15"/>
          <p:cNvSpPr/>
          <p:nvPr/>
        </p:nvSpPr>
        <p:spPr>
          <a:xfrm>
            <a:off x="1258920" y="2424240"/>
            <a:ext cx="19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c0128"/>
                </a:solidFill>
                <a:latin typeface="Arial"/>
                <a:ea typeface="Arial"/>
              </a:rPr>
              <a:t>→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  <a:ea typeface="Arial"/>
              </a:rPr>
              <a:t>cost = 200</a:t>
            </a:r>
            <a:br>
              <a:rPr sz="1800"/>
            </a:br>
            <a:r>
              <a:rPr b="0" lang="en-CA" sz="1800" spc="-1" strike="noStrike">
                <a:solidFill>
                  <a:srgbClr val="00ae00"/>
                </a:solidFill>
                <a:latin typeface="Arial"/>
                <a:ea typeface="Arial"/>
              </a:rPr>
              <a:t>→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  <a:ea typeface="Arial"/>
              </a:rPr>
              <a:t> cost = 100</a:t>
            </a:r>
            <a:endParaRPr b="0" lang="en-US" sz="1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165" name="Text Box 16"/>
          <p:cNvSpPr/>
          <p:nvPr/>
        </p:nvSpPr>
        <p:spPr>
          <a:xfrm>
            <a:off x="324000" y="4149720"/>
            <a:ext cx="5543280" cy="21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0" lang="en-CA" sz="1800" spc="-1" strike="noStrike">
                <a:solidFill>
                  <a:srgbClr val="fc0128"/>
                </a:solidFill>
                <a:latin typeface="Arial"/>
              </a:rPr>
              <a:t>S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} →  {</a:t>
            </a:r>
            <a:r>
              <a:rPr b="0" lang="en-CA" sz="1800" spc="-1" strike="noStrike">
                <a:solidFill>
                  <a:srgbClr val="fc0128"/>
                </a:solidFill>
                <a:latin typeface="Arial"/>
              </a:rPr>
              <a:t>n1 [200+50=250]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, n2 [200+100=300]} </a:t>
            </a:r>
            <a:br>
              <a:rPr sz="1800"/>
            </a:b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      → {</a:t>
            </a:r>
            <a:r>
              <a:rPr b="0" lang="en-CA" sz="1800" spc="-1" strike="noStrike">
                <a:solidFill>
                  <a:srgbClr val="fc0128"/>
                </a:solidFill>
                <a:latin typeface="Arial"/>
              </a:rPr>
              <a:t>n2 [100+200=300]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CA" sz="1800" spc="-1" strike="noStrike">
                <a:solidFill>
                  <a:srgbClr val="fc0128"/>
                </a:solidFill>
                <a:latin typeface="Arial"/>
              </a:rPr>
              <a:t> 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n3 [400+50=450]} </a:t>
            </a:r>
            <a:br>
              <a:rPr sz="1800"/>
            </a:b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      → {</a:t>
            </a:r>
            <a:r>
              <a:rPr b="0" lang="en-CA" sz="1800" spc="-1" strike="noStrike">
                <a:solidFill>
                  <a:srgbClr val="fc0128"/>
                </a:solidFill>
                <a:latin typeface="Arial"/>
              </a:rPr>
              <a:t>n4 [200+50=250]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, n3 [400+50=450]} </a:t>
            </a:r>
            <a:br>
              <a:rPr sz="1800"/>
            </a:b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      → {</a:t>
            </a:r>
            <a:r>
              <a:rPr b="0" lang="en-CA" sz="1800" spc="-1" strike="noStrike">
                <a:solidFill>
                  <a:srgbClr val="fc0128"/>
                </a:solidFill>
                <a:latin typeface="Arial"/>
              </a:rPr>
              <a:t>goal [300+0=300]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, n3 [400+50=450]} </a:t>
            </a:r>
            <a:endParaRPr b="0" lang="en-US" sz="1800" spc="-1" strike="noStrike">
              <a:solidFill>
                <a:srgbClr val="003366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We </a:t>
            </a: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do find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 the optimal path as the heuristic is still admissible. </a:t>
            </a: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But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 we are mislead into ignoring n2 until after we expand n1. </a:t>
            </a:r>
            <a:endParaRPr b="0" lang="en-US" sz="1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161" name="Oval 17"/>
          <p:cNvSpPr/>
          <p:nvPr/>
        </p:nvSpPr>
        <p:spPr>
          <a:xfrm>
            <a:off x="6905520" y="3287880"/>
            <a:ext cx="647640" cy="502920"/>
          </a:xfrm>
          <a:prstGeom prst="ellipse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n4</a:t>
            </a:r>
            <a:endParaRPr b="0" lang="en-US" sz="1800" spc="-1" strike="noStrike">
              <a:solidFill>
                <a:srgbClr val="003366"/>
              </a:solidFill>
              <a:latin typeface="Lucida Sans Unicode"/>
            </a:endParaRPr>
          </a:p>
        </p:txBody>
      </p:sp>
      <p:cxnSp>
        <p:nvCxnSpPr>
          <p:cNvPr id="166" name="AutoShape 18"/>
          <p:cNvCxnSpPr>
            <a:stCxn id="155" idx="4"/>
            <a:endCxn id="161" idx="0"/>
          </p:cNvCxnSpPr>
          <p:nvPr/>
        </p:nvCxnSpPr>
        <p:spPr>
          <a:xfrm>
            <a:off x="7227360" y="2998440"/>
            <a:ext cx="2520" cy="289440"/>
          </a:xfrm>
          <a:prstGeom prst="straightConnector1">
            <a:avLst/>
          </a:prstGeom>
          <a:ln w="28440">
            <a:solidFill>
              <a:srgbClr val="00ae00"/>
            </a:solidFill>
            <a:miter/>
            <a:tailEnd len="med" type="triangle" w="med"/>
          </a:ln>
        </p:spPr>
      </p:cxnSp>
      <p:sp>
        <p:nvSpPr>
          <p:cNvPr id="167" name="Text Box 19"/>
          <p:cNvSpPr/>
          <p:nvPr/>
        </p:nvSpPr>
        <p:spPr>
          <a:xfrm>
            <a:off x="7608600" y="2514600"/>
            <a:ext cx="135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h(n2) = 200</a:t>
            </a:r>
            <a:endParaRPr b="0" lang="en-US" sz="1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168" name="Text Box 20"/>
          <p:cNvSpPr/>
          <p:nvPr/>
        </p:nvSpPr>
        <p:spPr>
          <a:xfrm>
            <a:off x="7626960" y="3351240"/>
            <a:ext cx="122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h(n4) = 50</a:t>
            </a:r>
            <a:endParaRPr b="0" lang="en-US" sz="1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169" name="Text Box 21"/>
          <p:cNvSpPr/>
          <p:nvPr/>
        </p:nvSpPr>
        <p:spPr>
          <a:xfrm>
            <a:off x="3666240" y="2565360"/>
            <a:ext cx="116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h(n1) =50</a:t>
            </a:r>
            <a:endParaRPr b="0" lang="en-US" sz="1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170" name="Text Box 22"/>
          <p:cNvSpPr/>
          <p:nvPr/>
        </p:nvSpPr>
        <p:spPr>
          <a:xfrm>
            <a:off x="3666240" y="3279600"/>
            <a:ext cx="116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h(n3) =50</a:t>
            </a:r>
            <a:endParaRPr b="0" lang="en-US" sz="1800" spc="-1" strike="noStrike">
              <a:solidFill>
                <a:srgbClr val="00336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Slide Number Placeholder 3"/>
          <p:cNvSpPr/>
          <p:nvPr/>
        </p:nvSpPr>
        <p:spPr>
          <a:xfrm>
            <a:off x="8169480" y="6411960"/>
            <a:ext cx="13525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67FD3-A188-4D04-90EB-FA0BB3E16050}" type="slidenum">
              <a:rPr b="1" lang="en-US" sz="1800" spc="-1" strike="noStrike">
                <a:solidFill>
                  <a:srgbClr val="5f5f5f"/>
                </a:solidFill>
                <a:latin typeface="Lucida Sans Unicode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172" name="Footer Placeholder 4"/>
          <p:cNvSpPr/>
          <p:nvPr/>
        </p:nvSpPr>
        <p:spPr>
          <a:xfrm>
            <a:off x="2743200" y="6524640"/>
            <a:ext cx="4133880" cy="1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Bookman Old Style"/>
              </a:rPr>
              <a:t>EECS 3401 Fall 2018 Fahiem Bacchus &amp; Yves Lesperance</a:t>
            </a:r>
            <a:endParaRPr b="0" lang="en-US" sz="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Lucida Sans Unicode"/>
              </a:rPr>
              <a:t>Monotonicity implies admissibility</a:t>
            </a:r>
            <a:endParaRPr b="1" lang="en-US" sz="36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28600" y="1341000"/>
            <a:ext cx="8686800" cy="4824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0128"/>
                </a:solidFill>
                <a:latin typeface="Lucida Sans Unicode"/>
              </a:rPr>
              <a:t>Proof: by induction on number of steps to a goal node M.</a:t>
            </a:r>
            <a:endParaRPr b="0" lang="en-US" sz="20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906480" indent="-639360">
              <a:spcBef>
                <a:spcPts val="499"/>
              </a:spcBef>
              <a:buClr>
                <a:srgbClr val="0000ff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Base case: If n is a goal node, then h(n) = 0 = h*(n), so h(n) ≤ h*(n).</a:t>
            </a:r>
            <a:endParaRPr b="0" lang="en-US" sz="20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906480" indent="-639360">
              <a:spcBef>
                <a:spcPts val="499"/>
              </a:spcBef>
              <a:buClr>
                <a:srgbClr val="0000ff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Induction step: Assume that h(nk) ≤ h*(nk) if number of steps to goal at nk is at most K. Show that the proposition must hold for nodes nk+1where number of steps to goal is K+1. </a:t>
            </a:r>
            <a:endParaRPr b="0" lang="en-US" sz="2000" spc="-1" strike="noStrike">
              <a:solidFill>
                <a:srgbClr val="003366"/>
              </a:solidFill>
              <a:latin typeface="Lucida Sans Unicode"/>
            </a:endParaRPr>
          </a:p>
          <a:p>
            <a:pPr lvl="2" marL="1167480" indent="-639360">
              <a:spcBef>
                <a:spcPts val="499"/>
              </a:spcBef>
              <a:buClr>
                <a:srgbClr val="fc0128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Let nk be the next node along a shortest path from nk+1 to goal</a:t>
            </a:r>
            <a:endParaRPr b="0" lang="en-US" sz="2000" spc="-1" strike="noStrike">
              <a:solidFill>
                <a:srgbClr val="003366"/>
              </a:solidFill>
              <a:latin typeface="Lucida Sans Unicode"/>
            </a:endParaRPr>
          </a:p>
          <a:p>
            <a:pPr lvl="2" marL="1167480" indent="-639360">
              <a:spcBef>
                <a:spcPts val="499"/>
              </a:spcBef>
              <a:buClr>
                <a:srgbClr val="fc0128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h(nk+1) ≤ c(nk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 nk+1) + h(nk), since h is monotone</a:t>
            </a:r>
            <a:endParaRPr b="0" lang="en-US" sz="2000" spc="-1" strike="noStrike">
              <a:solidFill>
                <a:srgbClr val="003366"/>
              </a:solidFill>
              <a:latin typeface="Lucida Sans Unicode"/>
            </a:endParaRPr>
          </a:p>
          <a:p>
            <a:pPr lvl="2" marL="1167480" indent="-639360">
              <a:spcBef>
                <a:spcPts val="499"/>
              </a:spcBef>
              <a:buClr>
                <a:srgbClr val="fc0128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h(nk) ≤ h*(nk), by induction hypothesis</a:t>
            </a:r>
            <a:endParaRPr b="0" lang="en-US" sz="2000" spc="-1" strike="noStrike">
              <a:solidFill>
                <a:srgbClr val="003366"/>
              </a:solidFill>
              <a:latin typeface="Lucida Sans Unicode"/>
            </a:endParaRPr>
          </a:p>
          <a:p>
            <a:pPr lvl="2" marL="1167480" indent="-639360">
              <a:spcBef>
                <a:spcPts val="499"/>
              </a:spcBef>
              <a:buClr>
                <a:srgbClr val="fc0128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So  h(nk+1) ≤ c(nk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 nk+1) + h*(nk)</a:t>
            </a:r>
            <a:endParaRPr b="0" lang="en-US" sz="2000" spc="-1" strike="noStrike">
              <a:solidFill>
                <a:srgbClr val="003366"/>
              </a:solidFill>
              <a:latin typeface="Lucida Sans Unicode"/>
            </a:endParaRPr>
          </a:p>
          <a:p>
            <a:pPr lvl="2" marL="1167480" indent="-639360">
              <a:spcBef>
                <a:spcPts val="499"/>
              </a:spcBef>
              <a:buClr>
                <a:srgbClr val="fc0128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Thus h(nk+1) ≤ h*(nk+1)</a:t>
            </a:r>
            <a:endParaRPr b="0" lang="en-US" sz="20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906480" indent="-639360">
              <a:spcBef>
                <a:spcPts val="499"/>
              </a:spcBef>
              <a:buClr>
                <a:srgbClr val="0000ff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If goal is unreachable from a node n, then h*(n) =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 and result trivially holds.</a:t>
            </a:r>
            <a:endParaRPr b="0" lang="en-US" sz="2000" spc="-1" strike="noStrike">
              <a:solidFill>
                <a:srgbClr val="00336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Slide Number Placeholder 3"/>
          <p:cNvSpPr/>
          <p:nvPr/>
        </p:nvSpPr>
        <p:spPr>
          <a:xfrm>
            <a:off x="8169480" y="6411960"/>
            <a:ext cx="13525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D13D2-C656-4F5B-8D2A-E1414BABD378}" type="slidenum">
              <a:rPr b="1" lang="en-US" sz="1800" spc="-1" strike="noStrike">
                <a:solidFill>
                  <a:srgbClr val="5f5f5f"/>
                </a:solidFill>
                <a:latin typeface="Lucida Sans Unicode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176" name="Footer Placeholder 4"/>
          <p:cNvSpPr/>
          <p:nvPr/>
        </p:nvSpPr>
        <p:spPr>
          <a:xfrm>
            <a:off x="2743200" y="6524640"/>
            <a:ext cx="4133880" cy="1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Bookman Old Style"/>
              </a:rPr>
              <a:t>EECS 3401 Fall 2018 Fahiem Bacchus &amp; Yves Lesperance</a:t>
            </a:r>
            <a:endParaRPr b="0" lang="en-US" sz="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Lucida Sans Unicode"/>
              </a:rPr>
              <a:t>Consequences of monotonicity</a:t>
            </a:r>
            <a:endParaRPr b="1" lang="en-US" sz="36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fc0128"/>
              </a:buClr>
              <a:buSzPct val="85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0128"/>
                </a:solidFill>
                <a:latin typeface="Lucida Sans Unicode"/>
              </a:rPr>
              <a:t>The f-values of nodes along a path must be non-decreasing.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839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839880" indent="-5698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Let &lt;Start→ n1→ n2…→ nk&gt; be a path. We claim tha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                  f(ni) ≤ f(ni+1)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839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839880" indent="-5698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Proof: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839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f(ni) = c(Start→ …→ ni) + h(ni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       ≤ c(Start→ …→ ni)  + c(ni→ ni+1) + h(ni+1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       = c(Start→ …→ ni→ ni+1) + h(ni+1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       = g(ni+1) + h(ni+1)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       = f(ni+1).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Slide Number Placeholder 3"/>
          <p:cNvSpPr/>
          <p:nvPr/>
        </p:nvSpPr>
        <p:spPr>
          <a:xfrm>
            <a:off x="8169480" y="6411960"/>
            <a:ext cx="13525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51372-B23D-43F2-AB62-42B17C92005F}" type="slidenum">
              <a:rPr b="1" lang="en-US" sz="1800" spc="-1" strike="noStrike">
                <a:solidFill>
                  <a:srgbClr val="5f5f5f"/>
                </a:solidFill>
                <a:latin typeface="Lucida Sans Unicode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180" name="Footer Placeholder 4"/>
          <p:cNvSpPr/>
          <p:nvPr/>
        </p:nvSpPr>
        <p:spPr>
          <a:xfrm>
            <a:off x="2743200" y="6524640"/>
            <a:ext cx="4133880" cy="1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Bookman Old Style"/>
              </a:rPr>
              <a:t>EECS 3401 Fall 2018 Fahiem Bacchus &amp; Yves Lesperance</a:t>
            </a:r>
            <a:endParaRPr b="0" lang="en-US" sz="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Lucida Sans Unicode"/>
              </a:rPr>
              <a:t>Consequences of monotonicity</a:t>
            </a:r>
            <a:endParaRPr b="1" lang="en-US" sz="36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57200" indent="-457200">
              <a:spcBef>
                <a:spcPts val="601"/>
              </a:spcBef>
              <a:buClr>
                <a:srgbClr val="fc0128"/>
              </a:buClr>
              <a:buSzPct val="85000"/>
              <a:buFont typeface="Lucida Sans Unicode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Lucida Sans Unicode"/>
              </a:rPr>
              <a:t>If n2 is expanded after n1, then f(n1) ≤  f(n2)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839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839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Proof:</a:t>
            </a:r>
            <a:endParaRPr b="0" lang="en-US" sz="20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839880" indent="-569880">
              <a:spcBef>
                <a:spcPts val="499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If n2 was on the frontier when n1 was expanded, </a:t>
            </a:r>
            <a:endParaRPr b="0" lang="en-US" sz="2000" spc="-1" strike="noStrike">
              <a:solidFill>
                <a:srgbClr val="003366"/>
              </a:solidFill>
              <a:latin typeface="Lucida Sans Unicode"/>
            </a:endParaRPr>
          </a:p>
          <a:p>
            <a:pPr lvl="2" marL="1295280" indent="-749160">
              <a:spcBef>
                <a:spcPts val="499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f(n1) ≤ f(n2)</a:t>
            </a:r>
            <a:endParaRPr b="0" lang="en-US" sz="20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839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otherwise we would have expanded n2.</a:t>
            </a:r>
            <a:endParaRPr b="0" lang="en-US" sz="20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839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839880" indent="-569880">
              <a:spcBef>
                <a:spcPts val="499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If n2 was added to the frontier after n1’s expansion, then let </a:t>
            </a:r>
            <a:r>
              <a:rPr b="0" lang="en-US" sz="2000" spc="-1" strike="noStrike">
                <a:solidFill>
                  <a:srgbClr val="00ae00"/>
                </a:solidFill>
                <a:latin typeface="Lucida Sans Unicode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 be an ancestor of n2 that was present when n1 was being expanded (this could be n1 itself). We have f(n1) ≤ f(</a:t>
            </a:r>
            <a:r>
              <a:rPr b="0" lang="en-US" sz="2000" spc="-1" strike="noStrike">
                <a:solidFill>
                  <a:srgbClr val="00ae00"/>
                </a:solidFill>
                <a:latin typeface="Lucida Sans Unicode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) since A* chose n1 while </a:t>
            </a:r>
            <a:r>
              <a:rPr b="0" lang="en-US" sz="2000" spc="-1" strike="noStrike">
                <a:solidFill>
                  <a:srgbClr val="00ae00"/>
                </a:solidFill>
                <a:latin typeface="Lucida Sans Unicode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 was present in the frontier. Also,  since </a:t>
            </a:r>
            <a:r>
              <a:rPr b="0" lang="en-US" sz="2000" spc="-1" strike="noStrike">
                <a:solidFill>
                  <a:srgbClr val="00ae00"/>
                </a:solidFill>
                <a:latin typeface="Lucida Sans Unicode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 is along the path to n2, by property  </a:t>
            </a:r>
            <a:r>
              <a:rPr b="0" lang="en-US" sz="2000" spc="-1" strike="noStrike">
                <a:solidFill>
                  <a:srgbClr val="fc0128"/>
                </a:solidFill>
                <a:latin typeface="Lucida Sans Unicode"/>
              </a:rPr>
              <a:t>(1) 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we have</a:t>
            </a:r>
            <a:r>
              <a:rPr b="0" lang="en-US" sz="2000" spc="-1" strike="noStrike">
                <a:solidFill>
                  <a:srgbClr val="fc0128"/>
                </a:solidFill>
                <a:latin typeface="Lucida Sans Unicod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f(n)≤f(n2). So, we have</a:t>
            </a:r>
            <a:endParaRPr b="0" lang="en-US" sz="2000" spc="-1" strike="noStrike">
              <a:solidFill>
                <a:srgbClr val="003366"/>
              </a:solidFill>
              <a:latin typeface="Lucida Sans Unicode"/>
            </a:endParaRPr>
          </a:p>
          <a:p>
            <a:pPr lvl="2" marL="1295280" indent="-749160">
              <a:spcBef>
                <a:spcPts val="499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f(n1) ≤ f(n2).</a:t>
            </a:r>
            <a:endParaRPr b="0" lang="en-US" sz="2000" spc="-1" strike="noStrike">
              <a:solidFill>
                <a:srgbClr val="003366"/>
              </a:solidFill>
              <a:latin typeface="Lucida Sans Unicode"/>
            </a:endParaRPr>
          </a:p>
          <a:p>
            <a:pPr lvl="2" marL="12952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Lucida Sans Unicode"/>
            </a:endParaRPr>
          </a:p>
          <a:p>
            <a:pPr lvl="2" marL="12952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Slide Number Placeholder 3"/>
          <p:cNvSpPr/>
          <p:nvPr/>
        </p:nvSpPr>
        <p:spPr>
          <a:xfrm>
            <a:off x="8169480" y="6411960"/>
            <a:ext cx="13525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7EA3A-DAE1-4E7A-9986-137A95F85B66}" type="slidenum">
              <a:rPr b="1" lang="en-US" sz="1800" spc="-1" strike="noStrike">
                <a:solidFill>
                  <a:srgbClr val="5f5f5f"/>
                </a:solidFill>
                <a:latin typeface="Lucida Sans Unicode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184" name="Footer Placeholder 4"/>
          <p:cNvSpPr/>
          <p:nvPr/>
        </p:nvSpPr>
        <p:spPr>
          <a:xfrm>
            <a:off x="2743200" y="6524640"/>
            <a:ext cx="4133880" cy="1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Bookman Old Style"/>
              </a:rPr>
              <a:t>EECS 3401 Fall 2018 Fahiem Bacchus &amp; Yves Lesperance</a:t>
            </a:r>
            <a:endParaRPr b="0" lang="en-US" sz="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Lucida Sans Unicode"/>
              </a:rPr>
              <a:t>Consequences of monotonicity</a:t>
            </a:r>
            <a:endParaRPr b="1" lang="en-US" sz="36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471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33520" indent="-533520">
              <a:spcBef>
                <a:spcPts val="601"/>
              </a:spcBef>
              <a:buClr>
                <a:srgbClr val="fc0128"/>
              </a:buClr>
              <a:buSzPct val="85000"/>
              <a:buFont typeface="Lucida Sans Unicode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Lucida Sans Unicode"/>
              </a:rPr>
              <a:t>When </a:t>
            </a:r>
            <a:r>
              <a:rPr b="0" i="1" lang="en-US" sz="2400" spc="-1" strike="noStrike">
                <a:solidFill>
                  <a:srgbClr val="fc0128"/>
                </a:solidFill>
                <a:latin typeface="Lucida Sans Unicode"/>
              </a:rPr>
              <a:t>n</a:t>
            </a:r>
            <a:r>
              <a:rPr b="0" lang="en-US" sz="2400" spc="-1" strike="noStrike">
                <a:solidFill>
                  <a:srgbClr val="fc0128"/>
                </a:solidFill>
                <a:latin typeface="Lucida Sans Unicode"/>
              </a:rPr>
              <a:t> is expanded every path with lower f-value has already been expanded.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915840" indent="-645840">
              <a:spcBef>
                <a:spcPts val="499"/>
              </a:spcBef>
              <a:buClr>
                <a:srgbClr val="0000ff"/>
              </a:buClr>
              <a:buSzPct val="85000"/>
              <a:buFont typeface="Lucida Sans Unicode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Assume by contradiction that there exists a path           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&lt;</a:t>
            </a:r>
            <a:r>
              <a:rPr b="0" lang="en-US" sz="1800" spc="-1" strike="noStrike">
                <a:solidFill>
                  <a:srgbClr val="fc0128"/>
                </a:solidFill>
                <a:latin typeface="Lucida Sans Unicode"/>
              </a:rPr>
              <a:t>Start, n0, n1, ni-1, ni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,</a:t>
            </a:r>
            <a:r>
              <a:rPr b="0" lang="en-US" sz="1800" spc="-1" strike="noStrike">
                <a:solidFill>
                  <a:srgbClr val="00ae00"/>
                </a:solidFill>
                <a:latin typeface="Lucida Sans Unicode"/>
              </a:rPr>
              <a:t> ni+1, …, nk&gt;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 with 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f(</a:t>
            </a:r>
            <a:r>
              <a:rPr b="0" lang="en-US" sz="1800" spc="-1" strike="noStrike">
                <a:solidFill>
                  <a:srgbClr val="00ae00"/>
                </a:solidFill>
                <a:latin typeface="Lucida Sans Unicode"/>
              </a:rPr>
              <a:t>nk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) &lt; f(n) 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and </a:t>
            </a:r>
            <a:r>
              <a:rPr b="0" lang="en-US" sz="2000" spc="-1" strike="noStrike">
                <a:solidFill>
                  <a:srgbClr val="fc0128"/>
                </a:solidFill>
                <a:latin typeface="Lucida Sans Unicode"/>
              </a:rPr>
              <a:t>ni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 is its 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last expanded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 node.</a:t>
            </a:r>
            <a:endParaRPr b="0" lang="en-US" sz="20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9158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915840" indent="-645840">
              <a:spcBef>
                <a:spcPts val="499"/>
              </a:spcBef>
              <a:buClr>
                <a:srgbClr val="0000ff"/>
              </a:buClr>
              <a:buSzPct val="85000"/>
              <a:buFont typeface="Lucida Sans Unicode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Then </a:t>
            </a:r>
            <a:r>
              <a:rPr b="0" lang="en-US" sz="2000" spc="-1" strike="noStrike">
                <a:solidFill>
                  <a:srgbClr val="00ae00"/>
                </a:solidFill>
                <a:latin typeface="Lucida Sans Unicode"/>
              </a:rPr>
              <a:t>ni+1 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must be on the frontier while n is expanded:</a:t>
            </a:r>
            <a:endParaRPr b="0" lang="en-US" sz="2000" spc="-1" strike="noStrike">
              <a:solidFill>
                <a:srgbClr val="003366"/>
              </a:solidFill>
              <a:latin typeface="Lucida Sans Unicode"/>
            </a:endParaRPr>
          </a:p>
          <a:p>
            <a:pPr lvl="2" marL="13716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a) by </a:t>
            </a:r>
            <a:r>
              <a:rPr b="0" lang="en-US" sz="2000" spc="-1" strike="noStrike">
                <a:solidFill>
                  <a:srgbClr val="fc0128"/>
                </a:solidFill>
                <a:latin typeface="Lucida Sans Unicode"/>
              </a:rPr>
              <a:t>(1)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 f(</a:t>
            </a:r>
            <a:r>
              <a:rPr b="0" lang="en-US" sz="2000" spc="-1" strike="noStrike">
                <a:solidFill>
                  <a:srgbClr val="00ae00"/>
                </a:solidFill>
                <a:latin typeface="Lucida Sans Unicode"/>
              </a:rPr>
              <a:t>ni+1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)  ≤ f(</a:t>
            </a:r>
            <a:r>
              <a:rPr b="0" lang="en-US" sz="2000" spc="-1" strike="noStrike">
                <a:solidFill>
                  <a:srgbClr val="00ae00"/>
                </a:solidFill>
                <a:latin typeface="Lucida Sans Unicode"/>
              </a:rPr>
              <a:t>nk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) since they lie along the same path.</a:t>
            </a:r>
            <a:endParaRPr b="0" lang="en-US" sz="2000" spc="-1" strike="noStrike">
              <a:solidFill>
                <a:srgbClr val="003366"/>
              </a:solidFill>
              <a:latin typeface="Lucida Sans Unicode"/>
            </a:endParaRPr>
          </a:p>
          <a:p>
            <a:pPr lvl="2" marL="13716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b) since 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f(</a:t>
            </a:r>
            <a:r>
              <a:rPr b="0" lang="en-US" sz="1800" spc="-1" strike="noStrike">
                <a:solidFill>
                  <a:srgbClr val="00ae00"/>
                </a:solidFill>
                <a:latin typeface="Lucida Sans Unicode"/>
              </a:rPr>
              <a:t>nk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) &lt; f(n)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 so we have </a:t>
            </a:r>
            <a:r>
              <a:rPr b="0" i="1" lang="en-US" sz="2000" spc="-1" strike="noStrike">
                <a:solidFill>
                  <a:srgbClr val="000000"/>
                </a:solidFill>
                <a:latin typeface="Lucida Sans Unicode"/>
              </a:rPr>
              <a:t>f(</a:t>
            </a:r>
            <a:r>
              <a:rPr b="0" i="1" lang="en-US" sz="2000" spc="-1" strike="noStrike">
                <a:solidFill>
                  <a:srgbClr val="00ae00"/>
                </a:solidFill>
                <a:latin typeface="Lucida Sans Unicode"/>
              </a:rPr>
              <a:t>ni+1</a:t>
            </a:r>
            <a:r>
              <a:rPr b="0" i="1" lang="en-US" sz="2000" spc="-1" strike="noStrike">
                <a:solidFill>
                  <a:srgbClr val="000000"/>
                </a:solidFill>
                <a:latin typeface="Lucida Sans Unicode"/>
              </a:rPr>
              <a:t>) &lt; f(</a:t>
            </a:r>
            <a:r>
              <a:rPr b="0" i="1" lang="en-US" sz="2000" spc="-1" strike="noStrike">
                <a:solidFill>
                  <a:srgbClr val="00ae00"/>
                </a:solidFill>
                <a:latin typeface="Lucida Sans Unicode"/>
              </a:rPr>
              <a:t>n</a:t>
            </a:r>
            <a:r>
              <a:rPr b="0" i="1" lang="en-US" sz="2000" spc="-1" strike="noStrike">
                <a:solidFill>
                  <a:srgbClr val="000000"/>
                </a:solidFill>
                <a:latin typeface="Lucida Sans Unicode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Lucida Sans Unicode"/>
            </a:endParaRPr>
          </a:p>
          <a:p>
            <a:pPr lvl="2" marL="13716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c) by </a:t>
            </a:r>
            <a:r>
              <a:rPr b="0" lang="en-US" sz="2000" spc="-1" strike="noStrike">
                <a:solidFill>
                  <a:srgbClr val="fc0128"/>
                </a:solidFill>
                <a:latin typeface="Lucida Sans Unicode"/>
              </a:rPr>
              <a:t>(2)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 f(</a:t>
            </a:r>
            <a:r>
              <a:rPr b="0" lang="en-US" sz="2000" spc="-1" strike="noStrike">
                <a:solidFill>
                  <a:srgbClr val="00ae00"/>
                </a:solidFill>
                <a:latin typeface="Lucida Sans Unicode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)  ≤ f(</a:t>
            </a:r>
            <a:r>
              <a:rPr b="0" lang="en-US" sz="2000" spc="-1" strike="noStrike">
                <a:solidFill>
                  <a:srgbClr val="00ae00"/>
                </a:solidFill>
                <a:latin typeface="Lucida Sans Unicode"/>
              </a:rPr>
              <a:t>ni+1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) since n is expanded before ni+1. </a:t>
            </a:r>
            <a:endParaRPr b="0" lang="en-US" sz="2000" spc="-1" strike="noStrike">
              <a:solidFill>
                <a:srgbClr val="003366"/>
              </a:solidFill>
              <a:latin typeface="Lucida Sans Unicode"/>
            </a:endParaRPr>
          </a:p>
          <a:p>
            <a:pPr lvl="2" marL="13716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* Contradiction from b&amp;c!</a:t>
            </a:r>
            <a:endParaRPr b="0" lang="en-US" sz="2000" spc="-1" strike="noStrike">
              <a:solidFill>
                <a:srgbClr val="00336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Slide Number Placeholder 3"/>
          <p:cNvSpPr/>
          <p:nvPr/>
        </p:nvSpPr>
        <p:spPr>
          <a:xfrm>
            <a:off x="8169480" y="6411960"/>
            <a:ext cx="13525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E4FA7-6A45-4B3D-9710-48F068AC8CA2}" type="slidenum">
              <a:rPr b="1" lang="en-US" sz="1800" spc="-1" strike="noStrike">
                <a:solidFill>
                  <a:srgbClr val="5f5f5f"/>
                </a:solidFill>
                <a:latin typeface="Lucida Sans Unicode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188" name="Footer Placeholder 4"/>
          <p:cNvSpPr/>
          <p:nvPr/>
        </p:nvSpPr>
        <p:spPr>
          <a:xfrm>
            <a:off x="2743200" y="6524640"/>
            <a:ext cx="4133880" cy="1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Bookman Old Style"/>
              </a:rPr>
              <a:t>EECS 3401 Fall 2018 Fahiem Bacchus &amp; Yves Lesperance</a:t>
            </a:r>
            <a:endParaRPr b="0" lang="en-US" sz="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Lucida Sans Unicode"/>
              </a:rPr>
              <a:t>Consequences of monotonicity</a:t>
            </a:r>
            <a:endParaRPr b="1" lang="en-US" sz="36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153640" cy="5076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33520" indent="-533520">
              <a:spcBef>
                <a:spcPts val="601"/>
              </a:spcBef>
              <a:buClr>
                <a:srgbClr val="fc0128"/>
              </a:buClr>
              <a:buSzPct val="85000"/>
              <a:buFont typeface="Lucida Sans Unicode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Lucida Sans Unicode"/>
              </a:rPr>
              <a:t>With a monotone heuristic, the first time A* expands a state, it has found the minimum cost path to that state.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9158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Lucida Sans Unicode"/>
            </a:endParaRPr>
          </a:p>
          <a:p>
            <a:pPr marL="533520" indent="-533520">
              <a:spcBef>
                <a:spcPts val="601"/>
              </a:spcBef>
              <a:buClr>
                <a:srgbClr val="fc0128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Proof: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91584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* Let PATH1 = &lt;Start, n0, n1, …, nk, n&gt; be </a:t>
            </a:r>
            <a:r>
              <a:rPr b="1" lang="en-US" sz="2000" spc="-1" strike="noStrike">
                <a:solidFill>
                  <a:srgbClr val="fc0128"/>
                </a:solidFill>
                <a:latin typeface="Lucida Sans Unicode"/>
              </a:rPr>
              <a:t>the first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 path to n found. We have f(path1) = c(PATH1) + h(n).</a:t>
            </a:r>
            <a:endParaRPr b="0" lang="en-US" sz="20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91584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* Let PATH2 = &lt;Start, m0,m1, …, mj, n&gt; be another path to n found later. we have f(path2) = c(PATH2) + h(n).</a:t>
            </a:r>
            <a:endParaRPr b="0" lang="en-US" sz="20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91584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91584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* By property</a:t>
            </a:r>
            <a:r>
              <a:rPr b="0" lang="en-US" sz="2000" spc="-1" strike="noStrike">
                <a:solidFill>
                  <a:srgbClr val="fc0128"/>
                </a:solidFill>
                <a:latin typeface="Lucida Sans Unicode"/>
              </a:rPr>
              <a:t> (3)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, f(path1) ≤ f(path2)</a:t>
            </a:r>
            <a:br>
              <a:rPr sz="2000"/>
            </a:br>
            <a:endParaRPr b="0" lang="en-US" sz="20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91584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0128"/>
                </a:solidFill>
                <a:latin typeface="Lucida Sans Unicode"/>
              </a:rPr>
              <a:t>     </a:t>
            </a:r>
            <a:r>
              <a:rPr b="0" lang="en-US" sz="2000" spc="-1" strike="noStrike">
                <a:solidFill>
                  <a:srgbClr val="fc0128"/>
                </a:solidFill>
                <a:latin typeface="Lucida Sans Unicode"/>
              </a:rPr>
              <a:t>* hence: c(PATH1) ≤ c(PATH2)</a:t>
            </a:r>
            <a:endParaRPr b="0" lang="en-US" sz="2000" spc="-1" strike="noStrike">
              <a:solidFill>
                <a:srgbClr val="00336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Slide Number Placeholder 3"/>
          <p:cNvSpPr/>
          <p:nvPr/>
        </p:nvSpPr>
        <p:spPr>
          <a:xfrm>
            <a:off x="8169480" y="6411960"/>
            <a:ext cx="13525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92911-783E-4A70-8D5A-58E7F1D32C6F}" type="slidenum">
              <a:rPr b="1" lang="en-US" sz="1800" spc="-1" strike="noStrike">
                <a:solidFill>
                  <a:srgbClr val="5f5f5f"/>
                </a:solidFill>
                <a:latin typeface="Lucida Sans Unicode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192" name="Footer Placeholder 4"/>
          <p:cNvSpPr/>
          <p:nvPr/>
        </p:nvSpPr>
        <p:spPr>
          <a:xfrm>
            <a:off x="2743200" y="6524640"/>
            <a:ext cx="4133880" cy="1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Bookman Old Style"/>
              </a:rPr>
              <a:t>EECS 3401 Fall 2018 Fahiem Bacchus &amp; Yves Lesperance</a:t>
            </a:r>
            <a:endParaRPr b="0" lang="en-US" sz="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Lucida Sans Unicode"/>
              </a:rPr>
              <a:t>Consequences of monotonicity</a:t>
            </a:r>
            <a:endParaRPr b="1" lang="en-US" sz="36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153640" cy="5076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0128"/>
                </a:solidFill>
                <a:latin typeface="Lucida Sans Unicode"/>
              </a:rPr>
              <a:t>Complete.</a:t>
            </a:r>
            <a:endParaRPr b="0" lang="en-US" sz="20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915840" indent="-645840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Yes, consider a least cost path to a goal node</a:t>
            </a:r>
            <a:endParaRPr b="0" lang="en-US" sz="1800" spc="-1" strike="noStrike">
              <a:solidFill>
                <a:srgbClr val="003366"/>
              </a:solidFill>
              <a:latin typeface="Lucida Sans Unicode"/>
            </a:endParaRPr>
          </a:p>
          <a:p>
            <a:pPr lvl="2" marL="1371600" indent="-825480">
              <a:lnSpc>
                <a:spcPct val="80000"/>
              </a:lnSpc>
              <a:spcBef>
                <a:spcPts val="451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SolutionPath = &lt;Start→ n1→ …→ G&gt; with cost</a:t>
            </a:r>
            <a:endParaRPr b="0" lang="en-US" sz="1800" spc="-1" strike="noStrike">
              <a:solidFill>
                <a:srgbClr val="003366"/>
              </a:solidFill>
              <a:latin typeface="Lucida Sans Unicode"/>
            </a:endParaRPr>
          </a:p>
          <a:p>
            <a:pPr lvl="2" marL="1371600" indent="-825480">
              <a:lnSpc>
                <a:spcPct val="80000"/>
              </a:lnSpc>
              <a:spcBef>
                <a:spcPts val="451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c(SolutionPath) </a:t>
            </a:r>
            <a:endParaRPr b="0" lang="en-US" sz="1800" spc="-1" strike="noStrike">
              <a:solidFill>
                <a:srgbClr val="003366"/>
              </a:solidFill>
              <a:latin typeface="Lucida Sans Unicode"/>
            </a:endParaRPr>
          </a:p>
          <a:p>
            <a:pPr lvl="2" marL="1371600" indent="-825480">
              <a:lnSpc>
                <a:spcPct val="80000"/>
              </a:lnSpc>
              <a:spcBef>
                <a:spcPts val="451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Since each action has a cost ≥ </a:t>
            </a:r>
            <a:r>
              <a:rPr b="0" lang="el-GR" sz="1800" spc="-1" strike="noStrike">
                <a:solidFill>
                  <a:srgbClr val="000000"/>
                </a:solidFill>
                <a:latin typeface="Lucida Sans Unicode"/>
              </a:rPr>
              <a:t>ε</a:t>
            </a:r>
            <a:r>
              <a:rPr b="0" lang="en-CA" sz="1800" spc="-1" strike="noStrike">
                <a:solidFill>
                  <a:srgbClr val="000000"/>
                </a:solidFill>
                <a:latin typeface="Lucida Sans Unicode"/>
              </a:rPr>
              <a:t> &gt; 0, there are only a finite number of nodes (paths) that have cost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 ≤ c(SolutionPath).</a:t>
            </a:r>
            <a:endParaRPr b="0" lang="en-US" sz="1800" spc="-1" strike="noStrike">
              <a:solidFill>
                <a:srgbClr val="003366"/>
              </a:solidFill>
              <a:latin typeface="Lucida Sans Unicode"/>
            </a:endParaRPr>
          </a:p>
          <a:p>
            <a:pPr lvl="2" marL="1371600" indent="-825480">
              <a:lnSpc>
                <a:spcPct val="80000"/>
              </a:lnSpc>
              <a:spcBef>
                <a:spcPts val="451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All of these paths must be explored before any path of cost &gt; c(SolutionPath).</a:t>
            </a:r>
            <a:endParaRPr b="0" lang="en-US" sz="1800" spc="-1" strike="noStrike">
              <a:solidFill>
                <a:srgbClr val="003366"/>
              </a:solidFill>
              <a:latin typeface="Lucida Sans Unicode"/>
            </a:endParaRPr>
          </a:p>
          <a:p>
            <a:pPr lvl="2" marL="1371600" indent="-825480">
              <a:lnSpc>
                <a:spcPct val="80000"/>
              </a:lnSpc>
              <a:spcBef>
                <a:spcPts val="451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So eventually SolutionPath, or some equal cost path to a goal must be expanded.</a:t>
            </a:r>
            <a:endParaRPr b="0" lang="en-US" sz="1800" spc="-1" strike="noStrike">
              <a:solidFill>
                <a:srgbClr val="003366"/>
              </a:solidFill>
              <a:latin typeface="Lucida Sans Unicode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0128"/>
                </a:solidFill>
                <a:latin typeface="Lucida Sans Unicode"/>
              </a:rPr>
              <a:t>Time and Space complexity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915840" indent="-645840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When h(n) = 0, for all n</a:t>
            </a:r>
            <a:endParaRPr b="0" lang="en-US" sz="1800" spc="-1" strike="noStrike">
              <a:solidFill>
                <a:srgbClr val="003366"/>
              </a:solidFill>
              <a:latin typeface="Lucida Sans Unicode"/>
            </a:endParaRPr>
          </a:p>
          <a:p>
            <a:pPr lvl="2" marL="1371600" indent="-825480">
              <a:lnSpc>
                <a:spcPct val="80000"/>
              </a:lnSpc>
              <a:spcBef>
                <a:spcPts val="451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h is monotone.</a:t>
            </a:r>
            <a:endParaRPr b="0" lang="en-US" sz="18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915840" indent="-645840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A* becomes uniform-cost search!</a:t>
            </a:r>
            <a:endParaRPr b="0" lang="en-US" sz="18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915840" indent="-645840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It can be shown that when h(n) &gt; 0 for some n, the number of nodes expanded can be no larger than uniform-cost.</a:t>
            </a:r>
            <a:endParaRPr b="0" lang="en-US" sz="18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915840" indent="-645840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Hence the same bounds as uniform-cost apply. (These are worst case bounds).</a:t>
            </a:r>
            <a:endParaRPr b="0" lang="en-US" sz="1800" spc="-1" strike="noStrike">
              <a:solidFill>
                <a:srgbClr val="00336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lide Number Placeholder 3"/>
          <p:cNvSpPr/>
          <p:nvPr/>
        </p:nvSpPr>
        <p:spPr>
          <a:xfrm>
            <a:off x="8169480" y="6411960"/>
            <a:ext cx="13525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096FB-4E2B-4452-9368-49A018731C29}" type="slidenum">
              <a:rPr b="1" lang="en-US" sz="1800" spc="-1" strike="noStrike">
                <a:solidFill>
                  <a:srgbClr val="5f5f5f"/>
                </a:solidFill>
                <a:latin typeface="Lucida Sans Unicode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91" name="Footer Placeholder 4"/>
          <p:cNvSpPr/>
          <p:nvPr/>
        </p:nvSpPr>
        <p:spPr>
          <a:xfrm>
            <a:off x="2743200" y="6524640"/>
            <a:ext cx="4133880" cy="1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Bookman Old Style"/>
              </a:rPr>
              <a:t>EECS 3401 Fall 2018 Fahiem Bacchus &amp; Yves Lesperance</a:t>
            </a:r>
            <a:endParaRPr b="0" lang="en-US" sz="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Lucida Sans Unicode"/>
              </a:rPr>
              <a:t>Heuristic Search.</a:t>
            </a:r>
            <a:endParaRPr b="1" lang="en-US" sz="36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153640" cy="5294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68200" indent="-268200">
              <a:spcBef>
                <a:spcPts val="700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In uninformed search, we don’t try to evaluate which of the nodes on the frontier are most promising. We never “look-ahead” to the goal.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544680" indent="-274680">
              <a:spcBef>
                <a:spcPts val="601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E.g., in uniform cost search we always expand the cheapest path. We don’t consider the cost of getting to the goal.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marL="268200" indent="-268200">
              <a:spcBef>
                <a:spcPts val="700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Often we have some other knowledge about the merit of nodes, e.g., going the wrong direction in Romania. 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Slide Number Placeholder 3"/>
          <p:cNvSpPr/>
          <p:nvPr/>
        </p:nvSpPr>
        <p:spPr>
          <a:xfrm>
            <a:off x="8169480" y="6411960"/>
            <a:ext cx="13525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5561C-1581-48DC-8F7F-11F3F8540185}" type="slidenum">
              <a:rPr b="1" lang="en-US" sz="1800" spc="-1" strike="noStrike">
                <a:solidFill>
                  <a:srgbClr val="5f5f5f"/>
                </a:solidFill>
                <a:latin typeface="Lucida Sans Unicode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196" name="Footer Placeholder 4"/>
          <p:cNvSpPr/>
          <p:nvPr/>
        </p:nvSpPr>
        <p:spPr>
          <a:xfrm>
            <a:off x="2743200" y="6524640"/>
            <a:ext cx="4133880" cy="1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Bookman Old Style"/>
              </a:rPr>
              <a:t>EECS 3401 Fall 2018 Fahiem Bacchus &amp; Yves Lesperance</a:t>
            </a:r>
            <a:endParaRPr b="0" lang="en-US" sz="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Lucida Sans Unicode"/>
              </a:rPr>
              <a:t>Consequences of monotonicity</a:t>
            </a:r>
            <a:endParaRPr b="1" lang="en-US" sz="36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153640" cy="5076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33520" indent="-533520">
              <a:spcBef>
                <a:spcPts val="700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0128"/>
                </a:solidFill>
                <a:latin typeface="Lucida Sans Unicode"/>
              </a:rPr>
              <a:t>Optimality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915840" indent="-645840">
              <a:spcBef>
                <a:spcPts val="601"/>
              </a:spcBef>
              <a:buClr>
                <a:srgbClr val="0000ff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Yes, by (4) the first path to a goal node must be optimal. 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marL="533520" indent="-533520">
              <a:spcBef>
                <a:spcPts val="700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0128"/>
                </a:solidFill>
                <a:latin typeface="Lucida Sans Unicode"/>
              </a:rPr>
              <a:t>Cycle Checking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915840" indent="-645840">
              <a:spcBef>
                <a:spcPts val="601"/>
              </a:spcBef>
              <a:buClr>
                <a:srgbClr val="0000ff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If we do cycle checking (e.g. using </a:t>
            </a:r>
            <a:r>
              <a:rPr b="0" lang="en-US" sz="2400" spc="-1" strike="noStrike">
                <a:solidFill>
                  <a:srgbClr val="fc0128"/>
                </a:solidFill>
                <a:latin typeface="Lucida Sans Unicode"/>
              </a:rPr>
              <a:t>GraphSearch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instead of </a:t>
            </a:r>
            <a:r>
              <a:rPr b="0" lang="en-US" sz="2400" spc="-1" strike="noStrike">
                <a:solidFill>
                  <a:srgbClr val="fc0128"/>
                </a:solidFill>
                <a:latin typeface="Lucida Sans Unicode"/>
              </a:rPr>
              <a:t>TreeSearch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) it is still optimal. Because by property (4) we need keep only the first path to a node, rejecting all subsequent paths.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Slide Number Placeholder 3"/>
          <p:cNvSpPr/>
          <p:nvPr/>
        </p:nvSpPr>
        <p:spPr>
          <a:xfrm>
            <a:off x="8169480" y="6411960"/>
            <a:ext cx="13525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2FB51-5E80-45CD-A930-91330853AB49}" type="slidenum">
              <a:rPr b="1" lang="en-US" sz="1800" spc="-1" strike="noStrike">
                <a:solidFill>
                  <a:srgbClr val="5f5f5f"/>
                </a:solidFill>
                <a:latin typeface="Lucida Sans Unicode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200" name="Footer Placeholder 4"/>
          <p:cNvSpPr/>
          <p:nvPr/>
        </p:nvSpPr>
        <p:spPr>
          <a:xfrm>
            <a:off x="2743200" y="6524640"/>
            <a:ext cx="4133880" cy="1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Bookman Old Style"/>
              </a:rPr>
              <a:t>EECS 3401 Fall 2018 Fahiem Bacchus &amp; Yves Lesperance</a:t>
            </a:r>
            <a:endParaRPr b="0" lang="en-US" sz="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Lucida Sans Unicode"/>
              </a:rPr>
              <a:t>Search generated by monotonicity</a:t>
            </a:r>
            <a:endParaRPr b="1" lang="en-US" sz="3600" spc="-1" strike="noStrike">
              <a:solidFill>
                <a:srgbClr val="003366"/>
              </a:solidFill>
              <a:latin typeface="Lucida Sans Unicode"/>
            </a:endParaRPr>
          </a:p>
        </p:txBody>
      </p:sp>
      <p:pic>
        <p:nvPicPr>
          <p:cNvPr id="202" name="Picture 5" descr=""/>
          <p:cNvPicPr/>
          <p:nvPr/>
        </p:nvPicPr>
        <p:blipFill>
          <a:blip r:embed="rId1"/>
          <a:stretch/>
        </p:blipFill>
        <p:spPr>
          <a:xfrm>
            <a:off x="539640" y="1268280"/>
            <a:ext cx="7880400" cy="501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Slide Number Placeholder 3"/>
          <p:cNvSpPr/>
          <p:nvPr/>
        </p:nvSpPr>
        <p:spPr>
          <a:xfrm>
            <a:off x="8169480" y="6411960"/>
            <a:ext cx="13525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22343-523D-4F2B-B5DD-226D37BEB191}" type="slidenum">
              <a:rPr b="1" lang="en-US" sz="1800" spc="-1" strike="noStrike">
                <a:solidFill>
                  <a:srgbClr val="5f5f5f"/>
                </a:solidFill>
                <a:latin typeface="Lucida Sans Unicode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204" name="Footer Placeholder 4"/>
          <p:cNvSpPr/>
          <p:nvPr/>
        </p:nvSpPr>
        <p:spPr>
          <a:xfrm>
            <a:off x="2743200" y="6524640"/>
            <a:ext cx="4133880" cy="1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Bookman Old Style"/>
              </a:rPr>
              <a:t>EECS 3401 Fall 2018 Fahiem Bacchus &amp; Yves Lesperance</a:t>
            </a:r>
            <a:endParaRPr b="0" lang="en-US" sz="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Lucida Sans Unicode"/>
              </a:rPr>
              <a:t>Admissibility without monotonicity</a:t>
            </a:r>
            <a:endParaRPr b="1" lang="en-US" sz="36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569440" cy="388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33520" indent="-533520">
              <a:spcBef>
                <a:spcPts val="700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When “h” is admissible but not monotonic.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915840" indent="-645840">
              <a:spcBef>
                <a:spcPts val="400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Time and Space complexity remain the same.  Completeness holds.</a:t>
            </a:r>
            <a:endParaRPr b="0" lang="en-US" sz="16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915840" indent="-645840">
              <a:spcBef>
                <a:spcPts val="400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Optimality still holds (without cycle checking), but need a different argument: don’t know that paths are explored in order of cost.</a:t>
            </a:r>
            <a:endParaRPr b="0" lang="en-US" sz="16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91584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Lucida Sans Unicode"/>
            </a:endParaRPr>
          </a:p>
          <a:p>
            <a:pPr marL="533520" indent="-533520">
              <a:spcBef>
                <a:spcPts val="700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Proof of optimality (without cycle checking): 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915840" indent="-645840">
              <a:spcBef>
                <a:spcPts val="400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Assume the goal path &lt;S,…,G&gt; found by A* has cost bigger than the optimal cost: i.e. </a:t>
            </a:r>
            <a:r>
              <a:rPr b="0" lang="en-US" sz="1600" spc="-1" strike="noStrike">
                <a:solidFill>
                  <a:srgbClr val="fc0128"/>
                </a:solidFill>
                <a:latin typeface="Lucida Sans Unicode"/>
              </a:rPr>
              <a:t>C* &lt; f(G)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. </a:t>
            </a:r>
            <a:endParaRPr b="0" lang="en-US" sz="16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915840" indent="-645840">
              <a:spcBef>
                <a:spcPts val="400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There must exists a node </a:t>
            </a:r>
            <a:r>
              <a:rPr b="0" lang="en-US" sz="1600" spc="-1" strike="noStrike">
                <a:solidFill>
                  <a:srgbClr val="fc0128"/>
                </a:solidFill>
                <a:latin typeface="Lucida Sans Unicode"/>
              </a:rPr>
              <a:t>n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 in the optimal path that is still in the frontier. </a:t>
            </a:r>
            <a:endParaRPr b="0" lang="en-US" sz="16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915840" indent="-645840">
              <a:spcBef>
                <a:spcPts val="400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We have:</a:t>
            </a:r>
            <a:r>
              <a:rPr b="0" lang="en-US" sz="1600" spc="-1" strike="noStrike">
                <a:solidFill>
                  <a:srgbClr val="fc0128"/>
                </a:solidFill>
                <a:latin typeface="Lucida Sans Unicode"/>
              </a:rPr>
              <a:t> f(n)=g(n)+h(n) </a:t>
            </a:r>
            <a:r>
              <a:rPr b="0" lang="en-US" sz="1600" spc="-1" strike="noStrike">
                <a:solidFill>
                  <a:srgbClr val="fc0128"/>
                </a:solidFill>
                <a:latin typeface="Lucida Sans Unicode"/>
                <a:ea typeface="Lucida Sans Unicode"/>
              </a:rPr>
              <a:t>≤ </a:t>
            </a:r>
            <a:r>
              <a:rPr b="0" lang="en-US" sz="1600" spc="-1" strike="noStrike">
                <a:solidFill>
                  <a:srgbClr val="fc0128"/>
                </a:solidFill>
                <a:latin typeface="Lucida Sans Unicode"/>
              </a:rPr>
              <a:t>g(n)+h*(n)=C*  &lt; f(G)</a:t>
            </a:r>
            <a:endParaRPr b="0" lang="en-US" sz="16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915840" indent="-645840">
              <a:spcBef>
                <a:spcPts val="400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Therefore, f(n) must have been selected </a:t>
            </a:r>
            <a:r>
              <a:rPr b="0" lang="en-US" sz="1600" spc="-1" strike="noStrike">
                <a:solidFill>
                  <a:srgbClr val="fc0128"/>
                </a:solidFill>
                <a:latin typeface="Lucida Sans Unicode"/>
              </a:rPr>
              <a:t>before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 G by A*. contradiction!</a:t>
            </a:r>
            <a:endParaRPr b="0" lang="en-US" sz="1600" spc="-1" strike="noStrike">
              <a:solidFill>
                <a:srgbClr val="003366"/>
              </a:solidFill>
              <a:latin typeface="Lucida Sans Unicode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91584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91584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Slide Number Placeholder 3"/>
          <p:cNvSpPr/>
          <p:nvPr/>
        </p:nvSpPr>
        <p:spPr>
          <a:xfrm>
            <a:off x="8169480" y="6411960"/>
            <a:ext cx="13525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6102F-1C1B-4E9F-BD89-04D74FCA5BC3}" type="slidenum">
              <a:rPr b="1" lang="en-US" sz="1800" spc="-1" strike="noStrike">
                <a:solidFill>
                  <a:srgbClr val="5f5f5f"/>
                </a:solidFill>
                <a:latin typeface="Lucida Sans Unicode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208" name="Footer Placeholder 4"/>
          <p:cNvSpPr/>
          <p:nvPr/>
        </p:nvSpPr>
        <p:spPr>
          <a:xfrm>
            <a:off x="2743200" y="6524640"/>
            <a:ext cx="4133880" cy="1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Bookman Old Style"/>
              </a:rPr>
              <a:t>EECS 3401 Fall 2018 Fahiem Bacchus &amp; Yves Lesperance</a:t>
            </a:r>
            <a:endParaRPr b="0" lang="en-US" sz="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Lucida Sans Unicode"/>
              </a:rPr>
              <a:t>Admissibility without monotonicity</a:t>
            </a:r>
            <a:endParaRPr b="1" lang="en-US" sz="36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68000" y="1447560"/>
            <a:ext cx="8294760" cy="205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No longer guaranteed we have found an optimal path to a node </a:t>
            </a:r>
            <a:r>
              <a:rPr b="1" i="1" lang="en-US" sz="2000" spc="-1" strike="noStrike">
                <a:solidFill>
                  <a:srgbClr val="000000"/>
                </a:solidFill>
                <a:latin typeface="Lucida Sans Unicode"/>
              </a:rPr>
              <a:t>the first time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 we visit it.  </a:t>
            </a:r>
            <a:endParaRPr b="0" lang="en-US" sz="2000" spc="-1" strike="noStrike">
              <a:solidFill>
                <a:srgbClr val="003366"/>
              </a:solidFill>
              <a:latin typeface="Lucida Sans Unicode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So, cycle checking might not preserve optimality.</a:t>
            </a:r>
            <a:endParaRPr b="0" lang="en-US" sz="20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915840" indent="-645840">
              <a:lnSpc>
                <a:spcPct val="90000"/>
              </a:lnSpc>
              <a:spcBef>
                <a:spcPts val="451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To fix this: for previously visited nodes, must remember cost of previous path. If new path is cheaper must explore again.</a:t>
            </a:r>
            <a:endParaRPr b="0" lang="en-US" sz="1800" spc="-1" strike="noStrike">
              <a:solidFill>
                <a:srgbClr val="003366"/>
              </a:solidFill>
              <a:latin typeface="Lucida Sans Unicode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contours of monotonic heuristics don’t hold.</a:t>
            </a:r>
            <a:endParaRPr b="0" lang="en-US" sz="2000" spc="-1" strike="noStrike">
              <a:solidFill>
                <a:srgbClr val="003366"/>
              </a:solidFill>
              <a:latin typeface="Lucida Sans Unicode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Lucida Sans Unicode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Lucida Sans Unicode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211" name="Rectangle 4"/>
          <p:cNvSpPr/>
          <p:nvPr/>
        </p:nvSpPr>
        <p:spPr>
          <a:xfrm>
            <a:off x="466560" y="3860640"/>
            <a:ext cx="8569440" cy="24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 Unicode"/>
              </a:rPr>
              <a:t>Space problem with A* (like breath-first search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):</a:t>
            </a:r>
            <a:endParaRPr b="0" lang="en-US" sz="18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IDA* is similar to Iterative Lengthening Search: It puts the newly expanded nodes in the </a:t>
            </a:r>
            <a:r>
              <a:rPr b="0" lang="en-US" sz="2000" spc="-1" strike="noStrike">
                <a:solidFill>
                  <a:srgbClr val="fc0128"/>
                </a:solidFill>
                <a:latin typeface="Lucida Sans Unicode"/>
                <a:ea typeface="ＭＳ Ｐゴシック"/>
              </a:rPr>
              <a:t>front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 of frontier! Two new parameters:</a:t>
            </a:r>
            <a:endParaRPr b="0" lang="en-US" sz="2000" spc="-1" strike="noStrike">
              <a:solidFill>
                <a:srgbClr val="003366"/>
              </a:solidFill>
              <a:latin typeface="Lucida Sans Unicode"/>
            </a:endParaRPr>
          </a:p>
          <a:p>
            <a:pPr lvl="2" marL="914400">
              <a:lnSpc>
                <a:spcPct val="90000"/>
              </a:lnSpc>
              <a:spcBef>
                <a:spcPts val="451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Lucida Sans Unicode"/>
                <a:ea typeface="ＭＳ Ｐゴシック"/>
              </a:rPr>
              <a:t>curBound</a:t>
            </a:r>
            <a:r>
              <a:rPr b="0" lang="en-US" sz="2000" spc="-1" strike="noStrike">
                <a:solidFill>
                  <a:srgbClr val="333399"/>
                </a:solidFill>
                <a:latin typeface="Lucida Sans Unicode"/>
                <a:ea typeface="ＭＳ Ｐゴシック"/>
              </a:rPr>
              <a:t>  </a:t>
            </a:r>
            <a:r>
              <a:rPr b="0" lang="en-US" sz="1800" spc="-1" strike="noStrike">
                <a:solidFill>
                  <a:srgbClr val="333399"/>
                </a:solidFill>
                <a:latin typeface="Lucida Sans Unicode"/>
                <a:ea typeface="ＭＳ Ｐゴシック"/>
              </a:rPr>
              <a:t>(any node with a </a:t>
            </a:r>
            <a:r>
              <a:rPr b="0" lang="en-US" sz="1600" spc="-1" strike="noStrike">
                <a:solidFill>
                  <a:srgbClr val="333399"/>
                </a:solidFill>
                <a:latin typeface="Lucida Sans Unicode"/>
                <a:ea typeface="ＭＳ Ｐゴシック"/>
              </a:rPr>
              <a:t>bigger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Lucida Sans Unicode"/>
                <a:ea typeface="ＭＳ Ｐゴシック"/>
              </a:rPr>
              <a:t>f value is discarded)</a:t>
            </a:r>
            <a:endParaRPr b="0" lang="en-US" sz="1800" spc="-1" strike="noStrike">
              <a:solidFill>
                <a:srgbClr val="003366"/>
              </a:solidFill>
              <a:latin typeface="Lucida Sans Unicode"/>
            </a:endParaRPr>
          </a:p>
          <a:p>
            <a:pPr lvl="2" marL="914400">
              <a:lnSpc>
                <a:spcPct val="90000"/>
              </a:lnSpc>
              <a:spcBef>
                <a:spcPts val="451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Lucida Sans Unicode"/>
                <a:ea typeface="ＭＳ Ｐゴシック"/>
              </a:rPr>
              <a:t>smallestNotExplored</a:t>
            </a:r>
            <a:r>
              <a:rPr b="0" lang="en-US" sz="2000" spc="-1" strike="noStrike">
                <a:solidFill>
                  <a:srgbClr val="333399"/>
                </a:solidFill>
                <a:latin typeface="Lucida Sans Unicode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Lucida Sans Unicode"/>
                <a:ea typeface="ＭＳ Ｐゴシック"/>
              </a:rPr>
              <a:t>(the smallest f value for discarded nodes in a round)   when frontier becomes empty, the search starts a new round with this bound.</a:t>
            </a:r>
            <a:endParaRPr b="0" lang="en-US" sz="1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212" name="Line 5"/>
          <p:cNvSpPr/>
          <p:nvPr/>
        </p:nvSpPr>
        <p:spPr>
          <a:xfrm>
            <a:off x="71280" y="3500280"/>
            <a:ext cx="8964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Slide Number Placeholder 3"/>
          <p:cNvSpPr/>
          <p:nvPr/>
        </p:nvSpPr>
        <p:spPr>
          <a:xfrm>
            <a:off x="8169480" y="6411960"/>
            <a:ext cx="13525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0FA16-0DE3-4A76-A2E0-60BF8EA8771D}" type="slidenum">
              <a:rPr b="1" lang="en-US" sz="1800" spc="-1" strike="noStrike">
                <a:solidFill>
                  <a:srgbClr val="5f5f5f"/>
                </a:solidFill>
                <a:latin typeface="Lucida Sans Unicode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214" name="Footer Placeholder 4"/>
          <p:cNvSpPr/>
          <p:nvPr/>
        </p:nvSpPr>
        <p:spPr>
          <a:xfrm>
            <a:off x="2743200" y="6524640"/>
            <a:ext cx="4133880" cy="1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Bookman Old Style"/>
              </a:rPr>
              <a:t>EECS 3401 Fall 2018 Fahiem Bacchus &amp; Yves Lesperance</a:t>
            </a:r>
            <a:endParaRPr b="0" lang="en-US" sz="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Lucida Sans Unicode"/>
              </a:rPr>
              <a:t>Building Heuristics: Relaxed Problem</a:t>
            </a:r>
            <a:endParaRPr b="1" lang="en-US" sz="32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153640" cy="5076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50880" indent="-533520">
              <a:spcBef>
                <a:spcPts val="601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One useful technique is to consider an easier problem, and let h(n) be the cost of reaching the goal in the easier problem. 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marL="650880" indent="-533520">
              <a:spcBef>
                <a:spcPts val="601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8-Puzzle moves.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1082520" indent="-457200">
              <a:spcBef>
                <a:spcPts val="499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Can move a tile from square A to B if</a:t>
            </a:r>
            <a:endParaRPr b="0" lang="en-US" sz="2000" spc="-1" strike="noStrike">
              <a:solidFill>
                <a:srgbClr val="003366"/>
              </a:solidFill>
              <a:latin typeface="Lucida Sans Unicode"/>
            </a:endParaRPr>
          </a:p>
          <a:p>
            <a:pPr lvl="2" marL="1654200" indent="-457200">
              <a:spcBef>
                <a:spcPts val="499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A is adjacent (left, right, above, below) to B</a:t>
            </a:r>
            <a:endParaRPr b="0" lang="en-US" sz="2000" spc="-1" strike="noStrike">
              <a:solidFill>
                <a:srgbClr val="003366"/>
              </a:solidFill>
              <a:latin typeface="Lucida Sans Unicode"/>
            </a:endParaRPr>
          </a:p>
          <a:p>
            <a:pPr lvl="2" marL="1654200" indent="-457200">
              <a:spcBef>
                <a:spcPts val="499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0128"/>
                </a:solidFill>
                <a:latin typeface="Lucida Sans Unicode"/>
              </a:rPr>
              <a:t>and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 B is blank</a:t>
            </a:r>
            <a:endParaRPr b="0" lang="en-US" sz="2000" spc="-1" strike="noStrike">
              <a:solidFill>
                <a:srgbClr val="003366"/>
              </a:solidFill>
              <a:latin typeface="Lucida Sans Unicode"/>
            </a:endParaRPr>
          </a:p>
          <a:p>
            <a:pPr marL="650880" indent="-533520">
              <a:spcBef>
                <a:spcPts val="601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Can relax some of these conditions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1082520" indent="-457200">
              <a:spcBef>
                <a:spcPts val="499"/>
              </a:spcBef>
              <a:buClr>
                <a:srgbClr val="0000ff"/>
              </a:buClr>
              <a:buSzPct val="85000"/>
              <a:buFont typeface="Lucida Sans Unicod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can move from A to B if A is adjacent to B (ignore whether or not position is blank)</a:t>
            </a:r>
            <a:endParaRPr b="0" lang="en-US" sz="20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1082520" indent="-457200">
              <a:spcBef>
                <a:spcPts val="499"/>
              </a:spcBef>
              <a:buClr>
                <a:srgbClr val="0000ff"/>
              </a:buClr>
              <a:buSzPct val="85000"/>
              <a:buFont typeface="Lucida Sans Unicod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can move from A to B if B is blank (ignore adjacency)</a:t>
            </a:r>
            <a:endParaRPr b="0" lang="en-US" sz="20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1082520" indent="-457200">
              <a:spcBef>
                <a:spcPts val="499"/>
              </a:spcBef>
              <a:buClr>
                <a:srgbClr val="0000ff"/>
              </a:buClr>
              <a:buSzPct val="85000"/>
              <a:buFont typeface="Lucida Sans Unicod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can move from A to B (ignore both conditions). </a:t>
            </a:r>
            <a:endParaRPr b="0" lang="en-US" sz="2000" spc="-1" strike="noStrike">
              <a:solidFill>
                <a:srgbClr val="00336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Slide Number Placeholder 3"/>
          <p:cNvSpPr/>
          <p:nvPr/>
        </p:nvSpPr>
        <p:spPr>
          <a:xfrm>
            <a:off x="8169480" y="6411960"/>
            <a:ext cx="13525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3F759-76B3-4EDD-AB29-117E68D28025}" type="slidenum">
              <a:rPr b="1" lang="en-US" sz="1800" spc="-1" strike="noStrike">
                <a:solidFill>
                  <a:srgbClr val="5f5f5f"/>
                </a:solidFill>
                <a:latin typeface="Lucida Sans Unicode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218" name="Footer Placeholder 4"/>
          <p:cNvSpPr/>
          <p:nvPr/>
        </p:nvSpPr>
        <p:spPr>
          <a:xfrm>
            <a:off x="2743200" y="6524640"/>
            <a:ext cx="4133880" cy="1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Bookman Old Style"/>
              </a:rPr>
              <a:t>EECS 3401 Fall 2018 Fahiem Bacchus &amp; Yves Lesperance</a:t>
            </a:r>
            <a:endParaRPr b="0" lang="en-US" sz="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Lucida Sans Unicode"/>
              </a:rPr>
              <a:t>Building Heuristics: Relaxed Problem</a:t>
            </a:r>
            <a:endParaRPr b="1" lang="en-US" sz="32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09120" y="1196640"/>
            <a:ext cx="8153640" cy="532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68200" indent="-268200">
              <a:lnSpc>
                <a:spcPct val="90000"/>
              </a:lnSpc>
              <a:spcBef>
                <a:spcPts val="601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#3 leads to the </a:t>
            </a:r>
            <a:r>
              <a:rPr b="0" lang="en-US" sz="2400" spc="-1" strike="noStrike">
                <a:solidFill>
                  <a:srgbClr val="fc0128"/>
                </a:solidFill>
                <a:latin typeface="Lucida Sans Unicode"/>
              </a:rPr>
              <a:t>misplaced tiles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heuristic.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855720" indent="-20808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To solve the puzzle, we need to move each tile into its final position.</a:t>
            </a:r>
            <a:endParaRPr b="0" lang="en-US" sz="20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855720" indent="-20808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Number of moves = number of misplaced tiles. </a:t>
            </a:r>
            <a:endParaRPr b="0" lang="en-US" sz="20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855720" indent="-20808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Clearly h(n) = number of misplaced tiles ≤ the h*(n) the cost of an optimal sequence of moves from n.</a:t>
            </a:r>
            <a:endParaRPr b="0" lang="en-US" sz="2000" spc="-1" strike="noStrike">
              <a:solidFill>
                <a:srgbClr val="003366"/>
              </a:solidFill>
              <a:latin typeface="Lucida Sans Unicode"/>
            </a:endParaRPr>
          </a:p>
          <a:p>
            <a:pPr marL="268200" indent="-268200">
              <a:lnSpc>
                <a:spcPct val="90000"/>
              </a:lnSpc>
              <a:spcBef>
                <a:spcPts val="601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#1 leads to the </a:t>
            </a:r>
            <a:r>
              <a:rPr b="0" lang="en-US" sz="2400" spc="-1" strike="noStrike">
                <a:solidFill>
                  <a:srgbClr val="fc0128"/>
                </a:solidFill>
                <a:latin typeface="Lucida Sans Unicode"/>
              </a:rPr>
              <a:t>manhattan distance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heuristic. 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855720" indent="-20808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To solve the puzzle we need to slide each tile into its final position.</a:t>
            </a:r>
            <a:endParaRPr b="0" lang="en-US" sz="20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855720" indent="-20808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We can move vertically or horizontally. </a:t>
            </a:r>
            <a:endParaRPr b="0" lang="en-US" sz="20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855720" indent="-20808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Number of moves = sum over all of the tiles of the number of vertical and horizontal slides we need to move that tile into place. </a:t>
            </a:r>
            <a:endParaRPr b="0" lang="en-US" sz="20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855720" indent="-20808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Again h(n) = sum of the manhattan distances ≤ h*(n)</a:t>
            </a:r>
            <a:endParaRPr b="0" lang="en-US" sz="2000" spc="-1" strike="noStrike">
              <a:solidFill>
                <a:srgbClr val="003366"/>
              </a:solidFill>
              <a:latin typeface="Lucida Sans Unicode"/>
            </a:endParaRPr>
          </a:p>
          <a:p>
            <a:pPr lvl="2" marL="1376280" indent="-179280">
              <a:lnSpc>
                <a:spcPct val="90000"/>
              </a:lnSpc>
              <a:spcBef>
                <a:spcPts val="499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in a real solution we need to move each tile at least that that far and we can only move one tile at a time.</a:t>
            </a:r>
            <a:endParaRPr b="0" lang="en-US" sz="2000" spc="-1" strike="noStrike">
              <a:solidFill>
                <a:srgbClr val="00336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Slide Number Placeholder 3"/>
          <p:cNvSpPr/>
          <p:nvPr/>
        </p:nvSpPr>
        <p:spPr>
          <a:xfrm>
            <a:off x="8169480" y="6411960"/>
            <a:ext cx="13525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F5880-0B88-4E0A-805C-8CEBB664A5C4}" type="slidenum">
              <a:rPr b="1" lang="en-US" sz="1800" spc="-1" strike="noStrike">
                <a:solidFill>
                  <a:srgbClr val="5f5f5f"/>
                </a:solidFill>
                <a:latin typeface="Lucida Sans Unicode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222" name="Footer Placeholder 4"/>
          <p:cNvSpPr/>
          <p:nvPr/>
        </p:nvSpPr>
        <p:spPr>
          <a:xfrm>
            <a:off x="2743200" y="6524640"/>
            <a:ext cx="4133880" cy="1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Bookman Old Style"/>
              </a:rPr>
              <a:t>EECS 3401 Fall 2018 Fahiem Bacchus &amp; Yves Lesperance</a:t>
            </a:r>
            <a:endParaRPr b="0" lang="en-US" sz="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Lucida Sans Unicode"/>
              </a:rPr>
              <a:t>Building Heuristics: Relaxed Problem</a:t>
            </a:r>
            <a:endParaRPr b="1" lang="en-US" sz="3200" spc="-1" strike="noStrike">
              <a:solidFill>
                <a:srgbClr val="003366"/>
              </a:solidFill>
              <a:latin typeface="Lucida Sans Unicode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1476360" y="2976480"/>
          <a:ext cx="6767640" cy="1463760"/>
        </p:xfrm>
        <a:graphic>
          <a:graphicData uri="http://schemas.openxmlformats.org/drawingml/2006/table">
            <a:tbl>
              <a:tblPr/>
              <a:tblGrid>
                <a:gridCol w="1201680"/>
                <a:gridCol w="1454400"/>
                <a:gridCol w="2041200"/>
                <a:gridCol w="207036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Lucida Sans Unicode"/>
                        </a:rPr>
                        <a:t>Depth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Lucida Sans Unicode"/>
                        </a:rPr>
                        <a:t>IDS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Lucida Sans Unicode"/>
                        </a:rPr>
                        <a:t>A*(Misplaced) 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Lucida Sans Unicode"/>
                        </a:rPr>
                        <a:t>A*(Manhattan) 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Lucida Sans Unicode"/>
                        </a:rPr>
                        <a:t>1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Lucida Sans Unicode"/>
                        </a:rPr>
                        <a:t>47,127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Lucida Sans Unicode"/>
                        </a:rPr>
                        <a:t>93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Lucida Sans Unicode"/>
                        </a:rPr>
                        <a:t>39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Lucida Sans Unicode"/>
                        </a:rPr>
                        <a:t>14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Lucida Sans Unicode"/>
                        </a:rPr>
                        <a:t>3,473,941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Lucida Sans Unicode"/>
                        </a:rPr>
                        <a:t>539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Lucida Sans Unicode"/>
                        </a:rPr>
                        <a:t>113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Lucida Sans Unicode"/>
                        </a:rPr>
                        <a:t>24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Lucida Sans Unicode"/>
                        </a:rPr>
                        <a:t>---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Lucida Sans Unicode"/>
                        </a:rPr>
                        <a:t>39,135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Lucida Sans Unicode"/>
                        </a:rPr>
                        <a:t>1,641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11280" y="4652640"/>
            <a:ext cx="8208720" cy="1584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5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Lucida Sans Unicode"/>
              </a:rPr>
              <a:t>Let </a:t>
            </a:r>
            <a:r>
              <a:rPr b="0" lang="en-US" sz="1800" spc="-1" strike="noStrike">
                <a:solidFill>
                  <a:srgbClr val="fc0128"/>
                </a:solidFill>
                <a:latin typeface="Lucida Sans Unicode"/>
              </a:rPr>
              <a:t>h1</a:t>
            </a:r>
            <a:r>
              <a:rPr b="0" lang="en-US" sz="1800" spc="-1" strike="noStrike">
                <a:solidFill>
                  <a:srgbClr val="003366"/>
                </a:solidFill>
                <a:latin typeface="Lucida Sans Unicode"/>
              </a:rPr>
              <a:t>=Misplaced,   </a:t>
            </a:r>
            <a:r>
              <a:rPr b="0" lang="en-US" sz="1800" spc="-1" strike="noStrike">
                <a:solidFill>
                  <a:srgbClr val="fc0128"/>
                </a:solidFill>
                <a:latin typeface="Lucida Sans Unicode"/>
              </a:rPr>
              <a:t>h2</a:t>
            </a:r>
            <a:r>
              <a:rPr b="0" lang="en-US" sz="1800" spc="-1" strike="noStrike">
                <a:solidFill>
                  <a:srgbClr val="003366"/>
                </a:solidFill>
                <a:latin typeface="Lucida Sans Unicode"/>
              </a:rPr>
              <a:t>=Manhattan </a:t>
            </a:r>
            <a:endParaRPr b="0" lang="en-US" sz="1800" spc="-1" strike="noStrike">
              <a:solidFill>
                <a:srgbClr val="003366"/>
              </a:solidFill>
              <a:latin typeface="Lucida Sans Unicode"/>
            </a:endParaRPr>
          </a:p>
          <a:p>
            <a:pPr marL="650880" indent="-533520">
              <a:lnSpc>
                <a:spcPct val="80000"/>
              </a:lnSpc>
              <a:spcBef>
                <a:spcPts val="451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Lucida Sans Unicode"/>
              </a:rPr>
              <a:t>Does h2 </a:t>
            </a:r>
            <a:r>
              <a:rPr b="1" lang="en-US" sz="1800" spc="-1" strike="noStrike">
                <a:solidFill>
                  <a:srgbClr val="003366"/>
                </a:solidFill>
                <a:latin typeface="Lucida Sans Unicode"/>
              </a:rPr>
              <a:t>always</a:t>
            </a:r>
            <a:r>
              <a:rPr b="0" lang="en-US" sz="1800" spc="-1" strike="noStrike">
                <a:solidFill>
                  <a:srgbClr val="003366"/>
                </a:solidFill>
                <a:latin typeface="Lucida Sans Unicode"/>
              </a:rPr>
              <a:t> expand less nodes than h1?</a:t>
            </a:r>
            <a:endParaRPr b="0" lang="en-US" sz="18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1082520" indent="-457200">
              <a:lnSpc>
                <a:spcPct val="80000"/>
              </a:lnSpc>
              <a:spcBef>
                <a:spcPts val="400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Lucida Sans Unicode"/>
              </a:rPr>
              <a:t>Yes! Note that h2 dominates h1, i.e. for all n: h1(n)</a:t>
            </a:r>
            <a:r>
              <a:rPr b="0" lang="en-US" sz="1600" spc="-1" strike="noStrike">
                <a:solidFill>
                  <a:srgbClr val="003366"/>
                </a:solidFill>
                <a:latin typeface="Lucida Sans Unicode"/>
                <a:ea typeface="Lucida Sans Unicode"/>
              </a:rPr>
              <a:t>≤</a:t>
            </a:r>
            <a:r>
              <a:rPr b="0" lang="en-US" sz="1600" spc="-1" strike="noStrike">
                <a:solidFill>
                  <a:srgbClr val="003366"/>
                </a:solidFill>
                <a:latin typeface="Lucida Sans Unicode"/>
              </a:rPr>
              <a:t>h2(n). From this you can prove h2 is faster than h1.</a:t>
            </a:r>
            <a:endParaRPr b="0" lang="en-US" sz="16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1082520" indent="-457200">
              <a:lnSpc>
                <a:spcPct val="80000"/>
              </a:lnSpc>
              <a:spcBef>
                <a:spcPts val="400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Lucida Sans Unicode"/>
              </a:rPr>
              <a:t>Therefore, among several admissible heuristic the one with highest value is the fastest.</a:t>
            </a:r>
            <a:endParaRPr b="0" lang="en-US" sz="1600" spc="-1" strike="noStrike">
              <a:solidFill>
                <a:srgbClr val="003366"/>
              </a:solidFill>
              <a:latin typeface="Lucida Sans Unicode"/>
            </a:endParaRPr>
          </a:p>
          <a:p>
            <a:pPr marL="650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226" name="Rectangle 58"/>
          <p:cNvSpPr/>
          <p:nvPr/>
        </p:nvSpPr>
        <p:spPr>
          <a:xfrm>
            <a:off x="755640" y="1125360"/>
            <a:ext cx="8209080" cy="17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650880" indent="-533520">
              <a:lnSpc>
                <a:spcPct val="100000"/>
              </a:lnSpc>
              <a:spcBef>
                <a:spcPts val="400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Lucida Sans Unicode"/>
              </a:rPr>
              <a:t> </a:t>
            </a:r>
            <a:r>
              <a:rPr b="0" lang="en-US" sz="1600" spc="-1" strike="noStrike">
                <a:solidFill>
                  <a:srgbClr val="003366"/>
                </a:solidFill>
                <a:latin typeface="Lucida Sans Unicode"/>
              </a:rPr>
              <a:t>The optimal cost to nodes in the relaxed problem is an </a:t>
            </a:r>
            <a:r>
              <a:rPr b="0" lang="en-US" sz="1600" spc="-1" strike="noStrike">
                <a:solidFill>
                  <a:srgbClr val="fc0128"/>
                </a:solidFill>
                <a:latin typeface="Lucida Sans Unicode"/>
              </a:rPr>
              <a:t>admissible</a:t>
            </a:r>
            <a:r>
              <a:rPr b="0" lang="en-US" sz="1600" spc="-1" strike="noStrike">
                <a:solidFill>
                  <a:srgbClr val="003366"/>
                </a:solidFill>
                <a:latin typeface="Lucida Sans Unicode"/>
              </a:rPr>
              <a:t> </a:t>
            </a:r>
            <a:r>
              <a:rPr b="0" lang="en-US" sz="1600" spc="-1" strike="noStrike">
                <a:solidFill>
                  <a:srgbClr val="fc0128"/>
                </a:solidFill>
                <a:latin typeface="Lucida Sans Unicode"/>
              </a:rPr>
              <a:t>heuristic</a:t>
            </a:r>
            <a:r>
              <a:rPr b="0" lang="en-US" sz="1600" spc="-1" strike="noStrike">
                <a:solidFill>
                  <a:srgbClr val="003366"/>
                </a:solidFill>
                <a:latin typeface="Lucida Sans Unicode"/>
              </a:rPr>
              <a:t> for the original problem!</a:t>
            </a:r>
            <a:endParaRPr b="0" lang="en-US" sz="16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1082520" indent="-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18ffd"/>
                </a:solidFill>
                <a:latin typeface="Lucida Sans Unicode"/>
                <a:ea typeface="ＭＳ Ｐゴシック"/>
              </a:rPr>
              <a:t>Proof</a:t>
            </a:r>
            <a:r>
              <a:rPr b="0" lang="en-US" sz="1600" spc="-1" strike="noStrike">
                <a:solidFill>
                  <a:srgbClr val="003366"/>
                </a:solidFill>
                <a:latin typeface="Lucida Sans Unicode"/>
                <a:ea typeface="ＭＳ Ｐゴシック"/>
              </a:rPr>
              <a:t>: the optimal solution in the original problem is a (</a:t>
            </a:r>
            <a:r>
              <a:rPr b="0" i="1" lang="en-US" sz="1600" spc="-1" strike="noStrike">
                <a:solidFill>
                  <a:srgbClr val="003366"/>
                </a:solidFill>
                <a:latin typeface="Lucida Sans Unicode"/>
                <a:ea typeface="ＭＳ Ｐゴシック"/>
              </a:rPr>
              <a:t>not necessarily optimal</a:t>
            </a:r>
            <a:r>
              <a:rPr b="0" lang="en-US" sz="1600" spc="-1" strike="noStrike">
                <a:solidFill>
                  <a:srgbClr val="003366"/>
                </a:solidFill>
                <a:latin typeface="Lucida Sans Unicode"/>
                <a:ea typeface="ＭＳ Ｐゴシック"/>
              </a:rPr>
              <a:t>) solution for relaxed problem, therefore it must be at least as expensive as the optimal solution in the relaxed problem.</a:t>
            </a:r>
            <a:endParaRPr b="0" lang="en-US" sz="1600" spc="-1" strike="noStrike">
              <a:solidFill>
                <a:srgbClr val="003366"/>
              </a:solidFill>
              <a:latin typeface="Lucida Sans Unicode"/>
            </a:endParaRPr>
          </a:p>
          <a:p>
            <a:pPr marL="650880" indent="-533520">
              <a:lnSpc>
                <a:spcPct val="100000"/>
              </a:lnSpc>
              <a:spcBef>
                <a:spcPts val="400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Lucida Sans Unicode"/>
              </a:rPr>
              <a:t>Comparison of IDS and A* (average total nodes expanded ):</a:t>
            </a:r>
            <a:endParaRPr b="0" lang="en-US" sz="1600" spc="-1" strike="noStrike">
              <a:solidFill>
                <a:srgbClr val="003366"/>
              </a:solidFill>
              <a:latin typeface="Lucida Sans Unicode"/>
            </a:endParaRPr>
          </a:p>
          <a:p>
            <a:pPr marL="650880" indent="-533520">
              <a:lnSpc>
                <a:spcPct val="80000"/>
              </a:lnSpc>
              <a:spcBef>
                <a:spcPts val="400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Slide Number Placeholder 3"/>
          <p:cNvSpPr/>
          <p:nvPr/>
        </p:nvSpPr>
        <p:spPr>
          <a:xfrm>
            <a:off x="8169480" y="6411960"/>
            <a:ext cx="13525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6479F-657E-4B27-8FD6-6DDB25CF433C}" type="slidenum">
              <a:rPr b="1" lang="en-US" sz="1800" spc="-1" strike="noStrike">
                <a:solidFill>
                  <a:srgbClr val="5f5f5f"/>
                </a:solidFill>
                <a:latin typeface="Lucida Sans Unicode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228" name="Footer Placeholder 4"/>
          <p:cNvSpPr/>
          <p:nvPr/>
        </p:nvSpPr>
        <p:spPr>
          <a:xfrm>
            <a:off x="2743200" y="6524640"/>
            <a:ext cx="4133880" cy="1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Bookman Old Style"/>
              </a:rPr>
              <a:t>EECS 3401 Fall 2018 Fahiem Bacchus &amp; Yves Lesperance</a:t>
            </a:r>
            <a:endParaRPr b="0" lang="en-US" sz="800" spc="-1" strike="noStrike">
              <a:solidFill>
                <a:srgbClr val="003366"/>
              </a:solidFill>
              <a:latin typeface="Lucida Sans Unicode"/>
            </a:endParaRPr>
          </a:p>
        </p:txBody>
      </p:sp>
      <p:pic>
        <p:nvPicPr>
          <p:cNvPr id="229" name="Picture 5" descr=""/>
          <p:cNvPicPr/>
          <p:nvPr/>
        </p:nvPicPr>
        <p:blipFill>
          <a:blip r:embed="rId1"/>
          <a:stretch/>
        </p:blipFill>
        <p:spPr>
          <a:xfrm>
            <a:off x="4572000" y="1844640"/>
            <a:ext cx="4464000" cy="2524320"/>
          </a:xfrm>
          <a:prstGeom prst="rect">
            <a:avLst/>
          </a:prstGeom>
          <a:ln w="0">
            <a:noFill/>
          </a:ln>
        </p:spPr>
      </p:pic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Lucida Sans Unicode"/>
              </a:rPr>
              <a:t>Building Heuristics: Pattern databases.</a:t>
            </a:r>
            <a:endParaRPr b="1" lang="en-US" sz="32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231" name="Text Box 6"/>
          <p:cNvSpPr/>
          <p:nvPr/>
        </p:nvSpPr>
        <p:spPr>
          <a:xfrm>
            <a:off x="539640" y="4633920"/>
            <a:ext cx="820908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85000"/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By searching </a:t>
            </a:r>
            <a:r>
              <a:rPr b="0" lang="en-US" sz="1800" spc="-1" strike="noStrike">
                <a:solidFill>
                  <a:srgbClr val="fc0128"/>
                </a:solidFill>
                <a:latin typeface="Lucida Sans"/>
              </a:rPr>
              <a:t>backwards</a:t>
            </a: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 from these goal states, we can compute the distance of any configuration of these tiles to their goal locations. We are ignoring the identity of the other tiles. </a:t>
            </a:r>
            <a:endParaRPr b="0" lang="en-US" sz="1800" spc="-1" strike="noStrike">
              <a:solidFill>
                <a:srgbClr val="003366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85000"/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For any state n, the number of moves required to get these tiles into place form a lower bound on the cost of getting to the goal from n.</a:t>
            </a:r>
            <a:endParaRPr b="0" lang="en-US" sz="1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50920" y="1125000"/>
            <a:ext cx="874872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631080" indent="-517320">
              <a:lnSpc>
                <a:spcPct val="80000"/>
              </a:lnSpc>
              <a:spcBef>
                <a:spcPts val="499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Lucida Sans Unicode"/>
              </a:rPr>
              <a:t>Admissible heuristics can also be derived from solution to </a:t>
            </a:r>
            <a:r>
              <a:rPr b="1" lang="en-US" sz="2000" spc="-1" strike="noStrike">
                <a:solidFill>
                  <a:srgbClr val="fc0128"/>
                </a:solidFill>
                <a:latin typeface="Lucida Sans Unicode"/>
              </a:rPr>
              <a:t>subproblems: 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Each state is mapped into a partial specification, e.g. in 15-puzzle only </a:t>
            </a:r>
            <a:r>
              <a:rPr b="1" i="1" lang="en-US" sz="2000" spc="-1" strike="noStrike">
                <a:solidFill>
                  <a:srgbClr val="333399"/>
                </a:solidFill>
                <a:latin typeface="Lucida Sans Unicode"/>
              </a:rPr>
              <a:t>position of specific tiles matters.</a:t>
            </a:r>
            <a:endParaRPr b="0" lang="en-US" sz="20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233" name="Rectangle 8"/>
          <p:cNvSpPr/>
          <p:nvPr/>
        </p:nvSpPr>
        <p:spPr>
          <a:xfrm>
            <a:off x="539640" y="2224080"/>
            <a:ext cx="439272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Lucida Sans Unicode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Lucida Sans Unicode"/>
              </a:rPr>
              <a:t>Here are goals for two sub-problems (called Corner and Fringe) of 15puzzle.</a:t>
            </a:r>
            <a:endParaRPr b="0" lang="en-US" sz="20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234" name="Rectangle 9"/>
          <p:cNvSpPr/>
          <p:nvPr/>
        </p:nvSpPr>
        <p:spPr>
          <a:xfrm>
            <a:off x="324000" y="1989000"/>
            <a:ext cx="8642160" cy="2448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85000"/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Slide Number Placeholder 3"/>
          <p:cNvSpPr/>
          <p:nvPr/>
        </p:nvSpPr>
        <p:spPr>
          <a:xfrm>
            <a:off x="8169480" y="6411960"/>
            <a:ext cx="13525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5DC6D-DB05-4091-823E-E6E48CF55522}" type="slidenum">
              <a:rPr b="1" lang="en-US" sz="1800" spc="-1" strike="noStrike">
                <a:solidFill>
                  <a:srgbClr val="5f5f5f"/>
                </a:solidFill>
                <a:latin typeface="Lucida Sans Unicode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236" name="Footer Placeholder 4"/>
          <p:cNvSpPr/>
          <p:nvPr/>
        </p:nvSpPr>
        <p:spPr>
          <a:xfrm>
            <a:off x="2743200" y="6524640"/>
            <a:ext cx="4133880" cy="1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Bookman Old Style"/>
              </a:rPr>
              <a:t>EECS 3401 Fall 2018 Fahiem Bacchus &amp; Yves Lesperance</a:t>
            </a:r>
            <a:endParaRPr b="0" lang="en-US" sz="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Lucida Sans Unicode"/>
              </a:rPr>
              <a:t>Building Heuristics: Pattern databases.</a:t>
            </a:r>
            <a:endParaRPr b="1" lang="en-US" sz="32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09120" y="1197000"/>
            <a:ext cx="8139240" cy="496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68200" indent="-268200">
              <a:spcBef>
                <a:spcPts val="601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These configurations are stored in a database, along with the number of moves required to move the tiles into place.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marL="268200" indent="-268200">
              <a:spcBef>
                <a:spcPts val="601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The </a:t>
            </a:r>
            <a:r>
              <a:rPr b="0" lang="en-US" sz="2400" spc="-1" strike="noStrike">
                <a:solidFill>
                  <a:srgbClr val="fc0128"/>
                </a:solidFill>
                <a:latin typeface="Lucida Sans Unicode"/>
              </a:rPr>
              <a:t>maximum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number of moves taken </a:t>
            </a:r>
            <a:r>
              <a:rPr b="0" lang="en-US" sz="2400" spc="-1" strike="noStrike">
                <a:solidFill>
                  <a:srgbClr val="fc0128"/>
                </a:solidFill>
                <a:latin typeface="Lucida Sans Unicode"/>
              </a:rPr>
              <a:t>over all of the databases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can be used as a heuristic. 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marL="268200" indent="-268200">
              <a:spcBef>
                <a:spcPts val="601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On the 15-puzzle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855720" indent="-208080">
              <a:spcBef>
                <a:spcPts val="499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The fringe data base yields about a 345 fold decrease in the search tree size.</a:t>
            </a:r>
            <a:endParaRPr b="0" lang="en-US" sz="20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855720" indent="-208080">
              <a:spcBef>
                <a:spcPts val="499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The corner data base yields about 437 fold decrease.</a:t>
            </a:r>
            <a:endParaRPr b="0" lang="en-US" sz="2000" spc="-1" strike="noStrike">
              <a:solidFill>
                <a:srgbClr val="003366"/>
              </a:solidFill>
              <a:latin typeface="Lucida Sans Unicode"/>
            </a:endParaRPr>
          </a:p>
          <a:p>
            <a:pPr marL="268200" indent="-268200">
              <a:spcBef>
                <a:spcPts val="601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Some times </a:t>
            </a:r>
            <a:r>
              <a:rPr b="0" lang="en-US" sz="2400" spc="-1" strike="noStrike">
                <a:solidFill>
                  <a:srgbClr val="fc0128"/>
                </a:solidFill>
                <a:latin typeface="Lucida Sans Unicode"/>
              </a:rPr>
              <a:t>disjoint patterns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can be found, then the number of moves can be </a:t>
            </a:r>
            <a:r>
              <a:rPr b="0" lang="en-US" sz="2400" spc="-1" strike="noStrike">
                <a:solidFill>
                  <a:srgbClr val="fc0128"/>
                </a:solidFill>
                <a:latin typeface="Lucida Sans Unicode"/>
              </a:rPr>
              <a:t>added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rather than taking the max.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Slide Number Placeholder 3"/>
          <p:cNvSpPr/>
          <p:nvPr/>
        </p:nvSpPr>
        <p:spPr>
          <a:xfrm>
            <a:off x="8169480" y="6411960"/>
            <a:ext cx="13525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7BB95-B8D5-4212-82E1-80541AB7A7D8}" type="slidenum">
              <a:rPr b="1" lang="en-US" sz="1800" spc="-1" strike="noStrike">
                <a:solidFill>
                  <a:srgbClr val="5f5f5f"/>
                </a:solidFill>
                <a:latin typeface="Lucida Sans Unicode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240" name="Footer Placeholder 4"/>
          <p:cNvSpPr/>
          <p:nvPr/>
        </p:nvSpPr>
        <p:spPr>
          <a:xfrm>
            <a:off x="2743200" y="6524640"/>
            <a:ext cx="4133880" cy="1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Bookman Old Style"/>
              </a:rPr>
              <a:t>EECS 3401 Fall 2018 Fahiem Bacchus &amp; Yves Lesperance</a:t>
            </a:r>
            <a:endParaRPr b="0" lang="en-US" sz="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Lucida Sans Unicode"/>
              </a:rPr>
              <a:t>Local Search</a:t>
            </a:r>
            <a:endParaRPr b="1" lang="en-US" sz="36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28600" y="1196640"/>
            <a:ext cx="8686800" cy="4824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68200" indent="-268200">
              <a:lnSpc>
                <a:spcPct val="80000"/>
              </a:lnSpc>
              <a:spcBef>
                <a:spcPts val="601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So far, we keep the paths to the goal.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marL="268200" indent="-268200">
              <a:lnSpc>
                <a:spcPct val="80000"/>
              </a:lnSpc>
              <a:spcBef>
                <a:spcPts val="601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For some problems (like 8-queens) we don’t care about the path, we only care about the solution. Many real problem like Scheduling, IC design, and network optimizations are of this form.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marL="268200" indent="-268200">
              <a:lnSpc>
                <a:spcPct val="80000"/>
              </a:lnSpc>
              <a:spcBef>
                <a:spcPts val="601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Lucida Sans Unicode"/>
              </a:rPr>
              <a:t>Local search</a:t>
            </a:r>
            <a:r>
              <a:rPr b="0" lang="en-US" sz="2400" spc="-1" strike="noStrike">
                <a:solidFill>
                  <a:srgbClr val="00336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algorithms operate using a single</a:t>
            </a:r>
            <a:r>
              <a:rPr b="0" lang="en-US" sz="2400" spc="-1" strike="noStrike">
                <a:solidFill>
                  <a:srgbClr val="00336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fc0128"/>
                </a:solidFill>
                <a:latin typeface="Lucida Sans Unicode"/>
              </a:rPr>
              <a:t>Current state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and generally move to neighbors of that state.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marL="268200" indent="-268200">
              <a:lnSpc>
                <a:spcPct val="80000"/>
              </a:lnSpc>
              <a:spcBef>
                <a:spcPts val="601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There is an</a:t>
            </a:r>
            <a:r>
              <a:rPr b="0" lang="en-US" sz="2400" spc="-1" strike="noStrike">
                <a:solidFill>
                  <a:srgbClr val="00336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fc0128"/>
                </a:solidFill>
                <a:latin typeface="Lucida Sans Unicode"/>
              </a:rPr>
              <a:t>objective function</a:t>
            </a:r>
            <a:r>
              <a:rPr b="0" lang="en-US" sz="2400" spc="-1" strike="noStrike">
                <a:solidFill>
                  <a:srgbClr val="00336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that tells the value of each state. The goal has the highest value (global maximum).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marL="268200" indent="-268200">
              <a:lnSpc>
                <a:spcPct val="80000"/>
              </a:lnSpc>
              <a:spcBef>
                <a:spcPts val="601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Algorithms like</a:t>
            </a:r>
            <a:r>
              <a:rPr b="0" lang="en-US" sz="2400" spc="-1" strike="noStrike">
                <a:solidFill>
                  <a:srgbClr val="00336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fc0128"/>
                </a:solidFill>
                <a:latin typeface="Lucida Sans Unicode"/>
              </a:rPr>
              <a:t>Hill Climbing</a:t>
            </a:r>
            <a:r>
              <a:rPr b="0" lang="en-US" sz="2400" spc="-1" strike="noStrike">
                <a:solidFill>
                  <a:srgbClr val="00336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try to move to a neighbor with the highest value.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marL="268200" indent="-268200">
              <a:lnSpc>
                <a:spcPct val="80000"/>
              </a:lnSpc>
              <a:spcBef>
                <a:spcPts val="601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Danger of being stuck in a</a:t>
            </a:r>
            <a:r>
              <a:rPr b="0" lang="en-US" sz="2400" spc="-1" strike="noStrike">
                <a:solidFill>
                  <a:srgbClr val="00336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fc0128"/>
                </a:solidFill>
                <a:latin typeface="Lucida Sans Unicode"/>
              </a:rPr>
              <a:t>local maximum.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So some randomness can be added to “shake” out of local maxima. 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marL="268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8169480" y="6411960"/>
            <a:ext cx="13525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718F5-230A-43E5-B604-ACE887C3393E}" type="slidenum">
              <a:rPr b="1" lang="en-US" sz="1800" spc="-1" strike="noStrike">
                <a:solidFill>
                  <a:srgbClr val="5f5f5f"/>
                </a:solidFill>
                <a:latin typeface="Lucida Sans Unicode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95" name="Footer Placeholder 4"/>
          <p:cNvSpPr/>
          <p:nvPr/>
        </p:nvSpPr>
        <p:spPr>
          <a:xfrm>
            <a:off x="2743200" y="6524640"/>
            <a:ext cx="4133880" cy="1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Bookman Old Style"/>
              </a:rPr>
              <a:t>EECS 3401 Fall 2018 Fahiem Bacchus &amp; Yves Lesperance</a:t>
            </a:r>
            <a:endParaRPr b="0" lang="en-US" sz="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Lucida Sans Unicode"/>
              </a:rPr>
              <a:t>Heuristic Search.</a:t>
            </a:r>
            <a:endParaRPr b="1" lang="en-US" sz="36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120" y="1267920"/>
            <a:ext cx="8153640" cy="5473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68200" indent="-268200">
              <a:lnSpc>
                <a:spcPct val="90000"/>
              </a:lnSpc>
              <a:spcBef>
                <a:spcPts val="799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Merit of a frontier node: different notions of merit.</a:t>
            </a:r>
            <a:endParaRPr b="0" lang="en-US" sz="32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544680" indent="-2746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If we are concerned about the </a:t>
            </a:r>
            <a:r>
              <a:rPr b="0" lang="en-US" sz="2800" spc="-1" strike="noStrike">
                <a:solidFill>
                  <a:srgbClr val="fc0128"/>
                </a:solidFill>
                <a:latin typeface="Lucida Sans Unicode"/>
              </a:rPr>
              <a:t>cost of the solution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, we might want a notion of merit of how costly it is to get to the goal from that search node.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544680" indent="-2746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If we are concerned about </a:t>
            </a:r>
            <a:r>
              <a:rPr b="0" lang="en-US" sz="2800" spc="-1" strike="noStrike">
                <a:solidFill>
                  <a:srgbClr val="fc0128"/>
                </a:solidFill>
                <a:latin typeface="Lucida Sans Unicode"/>
              </a:rPr>
              <a:t>minimizing computation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 in search we might want a notion of ease in finding the goal from that search node. 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544680" indent="-2746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We will focus on the “</a:t>
            </a:r>
            <a:r>
              <a:rPr b="0" lang="en-US" sz="2800" spc="-1" strike="noStrike">
                <a:solidFill>
                  <a:srgbClr val="fc0128"/>
                </a:solidFill>
                <a:latin typeface="Lucida Sans Unicode"/>
              </a:rPr>
              <a:t>cost of solution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” notion of merit.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Slide Number Placeholder 3"/>
          <p:cNvSpPr/>
          <p:nvPr/>
        </p:nvSpPr>
        <p:spPr>
          <a:xfrm>
            <a:off x="8169480" y="6411960"/>
            <a:ext cx="13525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B8E81-B20C-4C84-A5EB-D672AB224F9E}" type="slidenum">
              <a:rPr b="1" lang="en-US" sz="1800" spc="-1" strike="noStrike">
                <a:solidFill>
                  <a:srgbClr val="5f5f5f"/>
                </a:solidFill>
                <a:latin typeface="Lucida Sans Unicode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244" name="Footer Placeholder 4"/>
          <p:cNvSpPr/>
          <p:nvPr/>
        </p:nvSpPr>
        <p:spPr>
          <a:xfrm>
            <a:off x="2743200" y="6524640"/>
            <a:ext cx="4133880" cy="1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Bookman Old Style"/>
              </a:rPr>
              <a:t>EECS 3401 Fall 2018 Fahiem Bacchus &amp; Yves Lesperance</a:t>
            </a:r>
            <a:endParaRPr b="0" lang="en-US" sz="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Lucida Sans Unicode"/>
              </a:rPr>
              <a:t>Local Search</a:t>
            </a:r>
            <a:endParaRPr b="1" lang="en-US" sz="36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228600" y="1196640"/>
            <a:ext cx="8686800" cy="4824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254520" indent="-254520">
              <a:lnSpc>
                <a:spcPct val="80000"/>
              </a:lnSpc>
              <a:spcBef>
                <a:spcPts val="601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Lucida Sans Unicode"/>
              </a:rPr>
              <a:t>Simulated Annealing: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Instead of the best move, take a random move and if it improves the situation then always accept, otherwise accept with a probability &lt;1. Progressively decrease the probability of accepting such moves.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marL="254520" indent="-254520">
              <a:lnSpc>
                <a:spcPct val="80000"/>
              </a:lnSpc>
              <a:spcBef>
                <a:spcPts val="601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Lucida Sans Unicode"/>
              </a:rPr>
              <a:t>Local Beam Search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is like a parallel version of Hill Climbing.  Keeps K states and at each iteration chooses the K best neighbors (so information is shared between the parallel threads).  Also stochastic version.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marL="254520" indent="-254520">
              <a:lnSpc>
                <a:spcPct val="80000"/>
              </a:lnSpc>
              <a:spcBef>
                <a:spcPts val="601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Lucida Sans Unicode"/>
              </a:rPr>
              <a:t>Genetic Algorithms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are similar to Stochastic Local Beam Search, but mainly use </a:t>
            </a:r>
            <a:r>
              <a:rPr b="0" lang="en-US" sz="2400" spc="-1" strike="noStrike">
                <a:solidFill>
                  <a:srgbClr val="003366"/>
                </a:solidFill>
                <a:latin typeface="Lucida Sans Unicode"/>
              </a:rPr>
              <a:t>crossover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operation to generate new nodes.  This swaps feature values between 2 parent nodes to obtain children.  This gives a hierarchical flavor to the search: chunks of solutions get combined.  Choice of state representation becomes very important.  Has had wide impact, but not clear if/when better than other approaches.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lide Number Placeholder 3"/>
          <p:cNvSpPr/>
          <p:nvPr/>
        </p:nvSpPr>
        <p:spPr>
          <a:xfrm>
            <a:off x="8169480" y="6411960"/>
            <a:ext cx="13525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AFD52-2954-4A53-85A8-1C1255D0C997}" type="slidenum">
              <a:rPr b="1" lang="en-US" sz="1800" spc="-1" strike="noStrike">
                <a:solidFill>
                  <a:srgbClr val="5f5f5f"/>
                </a:solidFill>
                <a:latin typeface="Lucida Sans Unicode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99" name="Footer Placeholder 4"/>
          <p:cNvSpPr/>
          <p:nvPr/>
        </p:nvSpPr>
        <p:spPr>
          <a:xfrm>
            <a:off x="2743200" y="6524640"/>
            <a:ext cx="4133880" cy="1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Bookman Old Style"/>
              </a:rPr>
              <a:t>EECS 3401 Fall 2018 Fahiem Bacchus &amp; Yves Lesperance</a:t>
            </a:r>
            <a:endParaRPr b="0" lang="en-US" sz="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Lucida Sans Unicode"/>
              </a:rPr>
              <a:t>Heuristic Search.</a:t>
            </a:r>
            <a:endParaRPr b="1" lang="en-US" sz="36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68200" indent="-268200">
              <a:spcBef>
                <a:spcPts val="700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The idea is to develop a domain specific heuristic function h(n).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marL="268200" indent="-268200">
              <a:spcBef>
                <a:spcPts val="700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h(n) </a:t>
            </a:r>
            <a:r>
              <a:rPr b="0" lang="en-US" sz="2800" spc="-1" strike="noStrike">
                <a:solidFill>
                  <a:srgbClr val="fc0128"/>
                </a:solidFill>
                <a:latin typeface="Lucida Sans Unicode"/>
              </a:rPr>
              <a:t>guesses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 the cost of getting to the goal from node n. 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marL="268200" indent="-268200">
              <a:spcBef>
                <a:spcPts val="700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There are different ways of guessing this cost in different domains. I.e., heuristics are </a:t>
            </a:r>
            <a:r>
              <a:rPr b="0" lang="en-US" sz="2800" spc="-1" strike="noStrike">
                <a:solidFill>
                  <a:srgbClr val="fc0128"/>
                </a:solidFill>
                <a:latin typeface="Lucida Sans Unicode"/>
              </a:rPr>
              <a:t>domain specific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. 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lide Number Placeholder 3"/>
          <p:cNvSpPr/>
          <p:nvPr/>
        </p:nvSpPr>
        <p:spPr>
          <a:xfrm>
            <a:off x="8169480" y="6411960"/>
            <a:ext cx="13525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9AC18-4F30-4CC9-AE6A-27560C01D11D}" type="slidenum">
              <a:rPr b="1" lang="en-US" sz="1800" spc="-1" strike="noStrike">
                <a:solidFill>
                  <a:srgbClr val="5f5f5f"/>
                </a:solidFill>
                <a:latin typeface="Lucida Sans Unicode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103" name="Footer Placeholder 4"/>
          <p:cNvSpPr/>
          <p:nvPr/>
        </p:nvSpPr>
        <p:spPr>
          <a:xfrm>
            <a:off x="2743200" y="6524640"/>
            <a:ext cx="4133880" cy="1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Bookman Old Style"/>
              </a:rPr>
              <a:t>EECS 3401 Fall 2018 Fahiem Bacchus &amp; Yves Lesperance</a:t>
            </a:r>
            <a:endParaRPr b="0" lang="en-US" sz="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Lucida Sans Unicode"/>
              </a:rPr>
              <a:t>Heuristic Search.</a:t>
            </a:r>
            <a:endParaRPr b="1" lang="en-US" sz="36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68200" indent="-268200">
              <a:spcBef>
                <a:spcPts val="700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Convention: If </a:t>
            </a:r>
            <a:r>
              <a:rPr b="0" lang="en-US" sz="2800" spc="-1" strike="noStrike">
                <a:solidFill>
                  <a:srgbClr val="fc0128"/>
                </a:solidFill>
                <a:latin typeface="Lucida Sans Unicode"/>
              </a:rPr>
              <a:t>h(n</a:t>
            </a:r>
            <a:r>
              <a:rPr b="0" lang="en-US" sz="2800" spc="-1" strike="noStrike" baseline="-25000">
                <a:solidFill>
                  <a:srgbClr val="fc0128"/>
                </a:solidFill>
                <a:latin typeface="Lucida Sans Unicode"/>
              </a:rPr>
              <a:t>1</a:t>
            </a:r>
            <a:r>
              <a:rPr b="0" lang="en-US" sz="2800" spc="-1" strike="noStrike">
                <a:solidFill>
                  <a:srgbClr val="fc0128"/>
                </a:solidFill>
                <a:latin typeface="Lucida Sans Unicode"/>
              </a:rPr>
              <a:t>) &lt; h(n</a:t>
            </a:r>
            <a:r>
              <a:rPr b="0" lang="en-US" sz="2800" spc="-1" strike="noStrike" baseline="-25000">
                <a:solidFill>
                  <a:srgbClr val="fc0128"/>
                </a:solidFill>
                <a:latin typeface="Lucida Sans Unicode"/>
              </a:rPr>
              <a:t>2</a:t>
            </a:r>
            <a:r>
              <a:rPr b="0" lang="en-US" sz="2800" spc="-1" strike="noStrike">
                <a:solidFill>
                  <a:srgbClr val="fc0128"/>
                </a:solidFill>
                <a:latin typeface="Lucida Sans Unicode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 this means that we guess that it is cheaper to get to the goal from n</a:t>
            </a:r>
            <a:r>
              <a:rPr b="0" lang="en-US" sz="2800" spc="-1" strike="noStrike" baseline="-25000">
                <a:solidFill>
                  <a:srgbClr val="fc0128"/>
                </a:solidFill>
                <a:latin typeface="Lucida Sans Unicode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 than from n</a:t>
            </a:r>
            <a:r>
              <a:rPr b="0" lang="en-US" sz="2800" spc="-1" strike="noStrike" baseline="-25000">
                <a:solidFill>
                  <a:srgbClr val="fc0128"/>
                </a:solidFill>
                <a:latin typeface="Lucida Sans Unicode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marL="268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marL="268200" indent="-268200">
              <a:spcBef>
                <a:spcPts val="700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We require that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544680" indent="-274680">
              <a:spcBef>
                <a:spcPts val="601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h(n) = 0 for every node n that satisfies the goal.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lvl="2" marL="808200" indent="-262080">
              <a:spcBef>
                <a:spcPts val="601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Zero cost of getting to a goal node from a goal node.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Slide Number Placeholder 3"/>
          <p:cNvSpPr/>
          <p:nvPr/>
        </p:nvSpPr>
        <p:spPr>
          <a:xfrm>
            <a:off x="8169480" y="6411960"/>
            <a:ext cx="13525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2A461-2C81-48E6-A004-94826710FB98}" type="slidenum">
              <a:rPr b="1" lang="en-US" sz="1800" spc="-1" strike="noStrike">
                <a:solidFill>
                  <a:srgbClr val="5f5f5f"/>
                </a:solidFill>
                <a:latin typeface="Lucida Sans Unicode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107" name="Footer Placeholder 4"/>
          <p:cNvSpPr/>
          <p:nvPr/>
        </p:nvSpPr>
        <p:spPr>
          <a:xfrm>
            <a:off x="2743200" y="6524640"/>
            <a:ext cx="4133880" cy="1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Bookman Old Style"/>
              </a:rPr>
              <a:t>EECS 3401 Fall 2018 Fahiem Bacchus &amp; Yves Lesperance</a:t>
            </a:r>
            <a:endParaRPr b="0" lang="en-US" sz="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Lucida Sans Unicode"/>
              </a:rPr>
              <a:t>Using only h(n) </a:t>
            </a:r>
            <a:br>
              <a:rPr sz="3200"/>
            </a:br>
            <a:r>
              <a:rPr b="1" lang="en-US" sz="3200" spc="-1" strike="noStrike">
                <a:solidFill>
                  <a:srgbClr val="003366"/>
                </a:solidFill>
                <a:latin typeface="Lucida Sans Unicode"/>
              </a:rPr>
              <a:t>Greedy best-first search.</a:t>
            </a:r>
            <a:endParaRPr b="1" lang="en-US" sz="32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11280" y="1557000"/>
            <a:ext cx="8153280" cy="2268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68200" indent="-268200">
              <a:lnSpc>
                <a:spcPct val="90000"/>
              </a:lnSpc>
              <a:spcBef>
                <a:spcPts val="499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We use h(n) to rank the nodes on open.</a:t>
            </a:r>
            <a:endParaRPr b="0" lang="en-US" sz="20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544680" indent="-274680">
              <a:lnSpc>
                <a:spcPct val="90000"/>
              </a:lnSpc>
              <a:spcBef>
                <a:spcPts val="451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Always expand node with lowest h-value.</a:t>
            </a:r>
            <a:endParaRPr b="0" lang="en-US" sz="1800" spc="-1" strike="noStrike">
              <a:solidFill>
                <a:srgbClr val="003366"/>
              </a:solidFill>
              <a:latin typeface="Lucida Sans Unicode"/>
            </a:endParaRPr>
          </a:p>
          <a:p>
            <a:pPr marL="268200" indent="-268200">
              <a:lnSpc>
                <a:spcPct val="90000"/>
              </a:lnSpc>
              <a:spcBef>
                <a:spcPts val="499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We are greedily trying to achieve a low cost solution.</a:t>
            </a:r>
            <a:endParaRPr b="0" lang="en-US" sz="2000" spc="-1" strike="noStrike">
              <a:solidFill>
                <a:srgbClr val="003366"/>
              </a:solidFill>
              <a:latin typeface="Lucida Sans Unicode"/>
            </a:endParaRPr>
          </a:p>
          <a:p>
            <a:pPr marL="268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Lucida Sans Unicode"/>
            </a:endParaRPr>
          </a:p>
          <a:p>
            <a:pPr marL="268200" indent="-268200">
              <a:lnSpc>
                <a:spcPct val="90000"/>
              </a:lnSpc>
              <a:spcBef>
                <a:spcPts val="499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However, this method ignores the cost of getting to n, so it can be lead astray exploring nodes that cost a lot to get to but seem to be close to the goal:</a:t>
            </a:r>
            <a:endParaRPr b="0" lang="en-US" sz="20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110" name="Oval 4"/>
          <p:cNvSpPr/>
          <p:nvPr/>
        </p:nvSpPr>
        <p:spPr>
          <a:xfrm>
            <a:off x="5364000" y="3860640"/>
            <a:ext cx="792360" cy="505080"/>
          </a:xfrm>
          <a:prstGeom prst="ellipse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111" name="Oval 5"/>
          <p:cNvSpPr/>
          <p:nvPr/>
        </p:nvSpPr>
        <p:spPr>
          <a:xfrm>
            <a:off x="4427640" y="4581360"/>
            <a:ext cx="647640" cy="503280"/>
          </a:xfrm>
          <a:prstGeom prst="ellipse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n1</a:t>
            </a:r>
            <a:endParaRPr b="0" lang="en-US" sz="1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112" name="Oval 6"/>
          <p:cNvSpPr/>
          <p:nvPr/>
        </p:nvSpPr>
        <p:spPr>
          <a:xfrm>
            <a:off x="4427640" y="5373720"/>
            <a:ext cx="647640" cy="503280"/>
          </a:xfrm>
          <a:prstGeom prst="ellipse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n2</a:t>
            </a:r>
            <a:endParaRPr b="0" lang="en-US" sz="1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113" name="Oval 7"/>
          <p:cNvSpPr/>
          <p:nvPr/>
        </p:nvSpPr>
        <p:spPr>
          <a:xfrm>
            <a:off x="6227640" y="4581360"/>
            <a:ext cx="648000" cy="503280"/>
          </a:xfrm>
          <a:prstGeom prst="ellipse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n3</a:t>
            </a:r>
            <a:endParaRPr b="0" lang="en-US" sz="1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114" name="Oval 8"/>
          <p:cNvSpPr/>
          <p:nvPr/>
        </p:nvSpPr>
        <p:spPr>
          <a:xfrm>
            <a:off x="5580000" y="5878440"/>
            <a:ext cx="647640" cy="503280"/>
          </a:xfrm>
          <a:prstGeom prst="ellipse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Goal</a:t>
            </a:r>
            <a:endParaRPr b="0" lang="en-US" sz="1800" spc="-1" strike="noStrike">
              <a:solidFill>
                <a:srgbClr val="003366"/>
              </a:solidFill>
              <a:latin typeface="Lucida Sans Unicode"/>
            </a:endParaRPr>
          </a:p>
        </p:txBody>
      </p:sp>
      <p:cxnSp>
        <p:nvCxnSpPr>
          <p:cNvPr id="115" name="AutoShape 9"/>
          <p:cNvCxnSpPr>
            <a:stCxn id="110" idx="3"/>
            <a:endCxn id="111" idx="7"/>
          </p:cNvCxnSpPr>
          <p:nvPr/>
        </p:nvCxnSpPr>
        <p:spPr>
          <a:xfrm flipH="1">
            <a:off x="4979160" y="4290840"/>
            <a:ext cx="500760" cy="364320"/>
          </a:xfrm>
          <a:prstGeom prst="straightConnector1">
            <a:avLst/>
          </a:prstGeom>
          <a:ln w="28440">
            <a:solidFill>
              <a:srgbClr val="00ae00"/>
            </a:solidFill>
            <a:miter/>
            <a:tailEnd len="med" type="triangle" w="med"/>
          </a:ln>
        </p:spPr>
      </p:cxnSp>
      <p:cxnSp>
        <p:nvCxnSpPr>
          <p:cNvPr id="116" name="AutoShape 10"/>
          <p:cNvCxnSpPr>
            <a:stCxn id="110" idx="5"/>
            <a:endCxn id="113" idx="1"/>
          </p:cNvCxnSpPr>
          <p:nvPr/>
        </p:nvCxnSpPr>
        <p:spPr>
          <a:xfrm>
            <a:off x="6040080" y="4290840"/>
            <a:ext cx="283320" cy="364320"/>
          </a:xfrm>
          <a:prstGeom prst="straightConnector1">
            <a:avLst/>
          </a:prstGeom>
          <a:ln w="28440">
            <a:solidFill>
              <a:srgbClr val="fc0128"/>
            </a:solidFill>
            <a:miter/>
            <a:tailEnd len="med" type="triangle" w="med"/>
          </a:ln>
        </p:spPr>
      </p:cxnSp>
      <p:cxnSp>
        <p:nvCxnSpPr>
          <p:cNvPr id="117" name="AutoShape 11"/>
          <p:cNvCxnSpPr>
            <a:stCxn id="111" idx="4"/>
            <a:endCxn id="112" idx="0"/>
          </p:cNvCxnSpPr>
          <p:nvPr/>
        </p:nvCxnSpPr>
        <p:spPr>
          <a:xfrm>
            <a:off x="4750920" y="5084280"/>
            <a:ext cx="1080" cy="289440"/>
          </a:xfrm>
          <a:prstGeom prst="straightConnector1">
            <a:avLst/>
          </a:prstGeom>
          <a:ln w="28440">
            <a:solidFill>
              <a:srgbClr val="00ae00"/>
            </a:solidFill>
            <a:miter/>
            <a:tailEnd len="med" type="triangle" w="med"/>
          </a:ln>
        </p:spPr>
      </p:cxnSp>
      <p:cxnSp>
        <p:nvCxnSpPr>
          <p:cNvPr id="118" name="AutoShape 12"/>
          <p:cNvCxnSpPr>
            <a:stCxn id="113" idx="4"/>
            <a:endCxn id="114" idx="7"/>
          </p:cNvCxnSpPr>
          <p:nvPr/>
        </p:nvCxnSpPr>
        <p:spPr>
          <a:xfrm flipH="1">
            <a:off x="6132240" y="5084640"/>
            <a:ext cx="419760" cy="867600"/>
          </a:xfrm>
          <a:prstGeom prst="straightConnector1">
            <a:avLst/>
          </a:prstGeom>
          <a:ln w="28440">
            <a:solidFill>
              <a:srgbClr val="fc0128"/>
            </a:solidFill>
            <a:miter/>
            <a:tailEnd len="med" type="triangle" w="med"/>
          </a:ln>
        </p:spPr>
      </p:cxnSp>
      <p:cxnSp>
        <p:nvCxnSpPr>
          <p:cNvPr id="119" name="AutoShape 13"/>
          <p:cNvCxnSpPr>
            <a:stCxn id="112" idx="5"/>
            <a:endCxn id="114" idx="1"/>
          </p:cNvCxnSpPr>
          <p:nvPr/>
        </p:nvCxnSpPr>
        <p:spPr>
          <a:xfrm>
            <a:off x="4979880" y="5803920"/>
            <a:ext cx="696240" cy="148320"/>
          </a:xfrm>
          <a:prstGeom prst="straightConnector1">
            <a:avLst/>
          </a:prstGeom>
          <a:ln w="28440">
            <a:solidFill>
              <a:srgbClr val="00ae00"/>
            </a:solidFill>
            <a:miter/>
            <a:tailEnd len="med" type="triangle" w="med"/>
          </a:ln>
        </p:spPr>
      </p:cxnSp>
      <p:sp>
        <p:nvSpPr>
          <p:cNvPr id="120" name="Text Box 14"/>
          <p:cNvSpPr/>
          <p:nvPr/>
        </p:nvSpPr>
        <p:spPr>
          <a:xfrm>
            <a:off x="5054760" y="42829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121" name="Text Box 15"/>
          <p:cNvSpPr/>
          <p:nvPr/>
        </p:nvSpPr>
        <p:spPr>
          <a:xfrm>
            <a:off x="826920" y="3860640"/>
            <a:ext cx="1944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ae00"/>
                </a:solidFill>
                <a:latin typeface="Arial"/>
                <a:ea typeface="Arial"/>
              </a:rPr>
              <a:t>→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  <a:ea typeface="Arial"/>
              </a:rPr>
              <a:t>cost = 10</a:t>
            </a:r>
            <a:endParaRPr b="0" lang="en-US" sz="1800" spc="-1" strike="noStrike">
              <a:solidFill>
                <a:srgbClr val="003366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c0128"/>
                </a:solidFill>
                <a:latin typeface="Arial"/>
                <a:ea typeface="Arial"/>
              </a:rPr>
              <a:t>→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  <a:ea typeface="Arial"/>
              </a:rPr>
              <a:t>cost = 100</a:t>
            </a:r>
            <a:endParaRPr b="0" lang="en-US" sz="1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122" name="Text Box 16"/>
          <p:cNvSpPr/>
          <p:nvPr/>
        </p:nvSpPr>
        <p:spPr>
          <a:xfrm>
            <a:off x="7020000" y="457524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  <a:ea typeface="Arial"/>
              </a:rPr>
              <a:t>h(n3) = 50</a:t>
            </a:r>
            <a:endParaRPr b="0" lang="en-US" sz="1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123" name="Text Box 17"/>
          <p:cNvSpPr/>
          <p:nvPr/>
        </p:nvSpPr>
        <p:spPr>
          <a:xfrm>
            <a:off x="2916360" y="450864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  <a:ea typeface="Arial"/>
              </a:rPr>
              <a:t>h(n1) = 200</a:t>
            </a:r>
            <a:endParaRPr b="0" lang="en-US" sz="1800" spc="-1" strike="noStrike">
              <a:solidFill>
                <a:srgbClr val="00336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Slide Number Placeholder 3"/>
          <p:cNvSpPr/>
          <p:nvPr/>
        </p:nvSpPr>
        <p:spPr>
          <a:xfrm>
            <a:off x="8169480" y="6411960"/>
            <a:ext cx="13525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0823A-E609-403E-B994-EB67BDBA8D54}" type="slidenum">
              <a:rPr b="1" lang="en-US" sz="1800" spc="-1" strike="noStrike">
                <a:solidFill>
                  <a:srgbClr val="5f5f5f"/>
                </a:solidFill>
                <a:latin typeface="Lucida Sans Unicode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125" name="Footer Placeholder 4"/>
          <p:cNvSpPr/>
          <p:nvPr/>
        </p:nvSpPr>
        <p:spPr>
          <a:xfrm>
            <a:off x="2743200" y="6524640"/>
            <a:ext cx="4133880" cy="1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Bookman Old Style"/>
              </a:rPr>
              <a:t>EECS 3401 Fall 2018 Fahiem Bacchus &amp; Yves Lesperance</a:t>
            </a:r>
            <a:endParaRPr b="0" lang="en-US" sz="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Lucida Sans Unicode"/>
              </a:rPr>
              <a:t>A* search</a:t>
            </a:r>
            <a:endParaRPr b="1" lang="en-US" sz="36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11280" y="1099800"/>
            <a:ext cx="8153280" cy="477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249120" indent="-249120">
              <a:spcBef>
                <a:spcPts val="601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Take into account the cost of getting to the node as well as our estimate of the cost of getting to the goal from n.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marL="249120" indent="-249120">
              <a:spcBef>
                <a:spcPts val="601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Define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506520" indent="-255240">
              <a:spcBef>
                <a:spcPts val="499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0128"/>
                </a:solidFill>
                <a:latin typeface="Lucida Sans Unicode"/>
              </a:rPr>
              <a:t>f(n) = g(n) + h(n)</a:t>
            </a:r>
            <a:endParaRPr b="0" lang="en-US" sz="2000" spc="-1" strike="noStrike">
              <a:solidFill>
                <a:srgbClr val="003366"/>
              </a:solidFill>
              <a:latin typeface="Lucida Sans Unicode"/>
            </a:endParaRPr>
          </a:p>
          <a:p>
            <a:pPr lvl="2" marL="751320" indent="-243720">
              <a:spcBef>
                <a:spcPts val="499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g(n) is the cost of the path to node n</a:t>
            </a:r>
            <a:endParaRPr b="0" lang="en-US" sz="2000" spc="-1" strike="noStrike">
              <a:solidFill>
                <a:srgbClr val="003366"/>
              </a:solidFill>
              <a:latin typeface="Lucida Sans Unicode"/>
            </a:endParaRPr>
          </a:p>
          <a:p>
            <a:pPr lvl="2" marL="751320" indent="-243720">
              <a:spcBef>
                <a:spcPts val="499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h(n) is the heuristic estimate of the cost of getting to a goal node from n. </a:t>
            </a:r>
            <a:endParaRPr b="0" lang="en-US" sz="20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506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Lucida Sans Unicode"/>
            </a:endParaRPr>
          </a:p>
          <a:p>
            <a:pPr marL="249120" indent="-249120">
              <a:spcBef>
                <a:spcPts val="601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Now we </a:t>
            </a:r>
            <a:r>
              <a:rPr b="0" lang="en-US" sz="2400" spc="-1" strike="noStrike">
                <a:solidFill>
                  <a:srgbClr val="fc0128"/>
                </a:solidFill>
                <a:latin typeface="Lucida Sans Unicode"/>
              </a:rPr>
              <a:t>always expand the node with lowest f-value on the frontier.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marL="24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marL="249120" indent="-249120">
              <a:spcBef>
                <a:spcPts val="601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The f-value is an estimate of the cost of getting to the goal via this node (path).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Slide Number Placeholder 3"/>
          <p:cNvSpPr/>
          <p:nvPr/>
        </p:nvSpPr>
        <p:spPr>
          <a:xfrm>
            <a:off x="8169480" y="6411960"/>
            <a:ext cx="13525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73825-7C75-4F1E-B481-738A0DCADAD5}" type="slidenum">
              <a:rPr b="1" lang="en-US" sz="1800" spc="-1" strike="noStrike">
                <a:solidFill>
                  <a:srgbClr val="5f5f5f"/>
                </a:solidFill>
                <a:latin typeface="Lucida Sans Unicode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129" name="Footer Placeholder 4"/>
          <p:cNvSpPr/>
          <p:nvPr/>
        </p:nvSpPr>
        <p:spPr>
          <a:xfrm>
            <a:off x="2743200" y="6524640"/>
            <a:ext cx="4133880" cy="1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Bookman Old Style"/>
              </a:rPr>
              <a:t>EECS 3401 Fall 2018 Fahiem Bacchus &amp; Yves Lesperance</a:t>
            </a:r>
            <a:endParaRPr b="0" lang="en-US" sz="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Lucida Sans Unicode"/>
              </a:rPr>
              <a:t>Conditions on h(n)</a:t>
            </a:r>
            <a:endParaRPr b="1" lang="en-US" sz="36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11280" y="1267920"/>
            <a:ext cx="8153280" cy="477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68200" indent="-268200">
              <a:spcBef>
                <a:spcPts val="700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We want to analyze the behavior of the resultant search.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marL="268200" indent="-268200">
              <a:spcBef>
                <a:spcPts val="700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Completeness, time and space, optimality? 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marL="268200" indent="-268200">
              <a:spcBef>
                <a:spcPts val="700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To obtain such results we must put some further conditions on the heuristic function h(n) and the search space.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544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Slide Number Placeholder 3"/>
          <p:cNvSpPr/>
          <p:nvPr/>
        </p:nvSpPr>
        <p:spPr>
          <a:xfrm>
            <a:off x="8169480" y="6411960"/>
            <a:ext cx="13525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6BD31-158E-4CBD-904D-ADB53138B539}" type="slidenum">
              <a:rPr b="1" lang="en-US" sz="1800" spc="-1" strike="noStrike">
                <a:solidFill>
                  <a:srgbClr val="5f5f5f"/>
                </a:solidFill>
                <a:latin typeface="Lucida Sans Unicode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133" name="Footer Placeholder 4"/>
          <p:cNvSpPr/>
          <p:nvPr/>
        </p:nvSpPr>
        <p:spPr>
          <a:xfrm>
            <a:off x="2743200" y="6524640"/>
            <a:ext cx="4133880" cy="1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Bookman Old Style"/>
              </a:rPr>
              <a:t>EECS 3401 Fall 2018 Fahiem Bacchus &amp; Yves Lesperance</a:t>
            </a:r>
            <a:endParaRPr b="0" lang="en-US" sz="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Lucida Sans Unicode"/>
              </a:rPr>
              <a:t>Conditions on h(n): Admissible</a:t>
            </a:r>
            <a:endParaRPr b="1" lang="en-US" sz="36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11280" y="1267920"/>
            <a:ext cx="8153280" cy="477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68200" indent="-268200">
              <a:lnSpc>
                <a:spcPct val="90000"/>
              </a:lnSpc>
              <a:spcBef>
                <a:spcPts val="700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c(n1→ n2) ≥ </a:t>
            </a:r>
            <a:r>
              <a:rPr b="0" lang="el-GR" sz="2800" spc="-1" strike="noStrike">
                <a:solidFill>
                  <a:srgbClr val="000000"/>
                </a:solidFill>
                <a:latin typeface="Lucida Sans Unicode"/>
              </a:rPr>
              <a:t>ε</a:t>
            </a:r>
            <a:r>
              <a:rPr b="0" lang="en-CA" sz="2800" spc="-1" strike="noStrike">
                <a:solidFill>
                  <a:srgbClr val="000000"/>
                </a:solidFill>
                <a:latin typeface="Lucida Sans Unicode"/>
              </a:rPr>
              <a:t> &gt; 0. The cost of any transition is greater than zero and can</a:t>
            </a:r>
            <a:r>
              <a:rPr b="0" lang="ja-JP" sz="2800" spc="-1" strike="noStrike">
                <a:solidFill>
                  <a:srgbClr val="000000"/>
                </a:solidFill>
                <a:latin typeface="Lucida Sans Unicode"/>
              </a:rPr>
              <a:t>’</a:t>
            </a:r>
            <a:r>
              <a:rPr b="0" lang="en-CA" sz="2800" spc="-1" strike="noStrike">
                <a:solidFill>
                  <a:srgbClr val="000000"/>
                </a:solidFill>
                <a:latin typeface="Lucida Sans Unicode"/>
              </a:rPr>
              <a:t>t be arbitrarily small.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marL="268200" indent="-268200">
              <a:lnSpc>
                <a:spcPct val="90000"/>
              </a:lnSpc>
              <a:spcBef>
                <a:spcPts val="700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Lucida Sans Unicode"/>
              </a:rPr>
              <a:t>Let h*(n) be the cost of an optimal path from n to a goal node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 if there is no path). Then an </a:t>
            </a:r>
            <a:r>
              <a:rPr b="0" lang="en-US" sz="2800" spc="-1" strike="noStrike">
                <a:solidFill>
                  <a:srgbClr val="fc0128"/>
                </a:solidFill>
                <a:latin typeface="Lucida Sans Unicode"/>
              </a:rPr>
              <a:t>admissible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 heuristic satisfies the condition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544680" indent="-2746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Lucida Sans Unicode"/>
              </a:rPr>
              <a:t>h(n) ≤  h*(n)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lvl="2" marL="808200" indent="-262080">
              <a:lnSpc>
                <a:spcPct val="90000"/>
              </a:lnSpc>
              <a:spcBef>
                <a:spcPts val="601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i.e.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 Unicode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always underestimates of the true cost.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marL="268200" indent="-268200">
              <a:lnSpc>
                <a:spcPct val="90000"/>
              </a:lnSpc>
              <a:spcBef>
                <a:spcPts val="700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Hence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544680" indent="-2746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h(g) = 0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544680" indent="-2746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For any goal node “g”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5T18:00:43Z</dcterms:created>
  <dc:creator>Fahiem Bacchus</dc:creator>
  <dc:description/>
  <dc:language>en-US</dc:language>
  <cp:lastModifiedBy>Yves Lesperance</cp:lastModifiedBy>
  <cp:lastPrinted>2018-10-27T22:09:29Z</cp:lastPrinted>
  <dcterms:modified xsi:type="dcterms:W3CDTF">2018-10-27T22:09:43Z</dcterms:modified>
  <cp:revision>97</cp:revision>
  <dc:subject/>
  <dc:title>CSC384: Intro to Artificial Intelligence  Sept 21st 2004 </dc:title>
</cp:coreProperties>
</file>