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d9fe"/>
            </a:gs>
            <a:gs pos="100000">
              <a:srgbClr val="a5a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5560" y="1371600"/>
            <a:ext cx="871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479840" y="3108240"/>
            <a:ext cx="35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205480" y="6508800"/>
            <a:ext cx="14007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7B5F-6BE9-4160-BA1A-7AA75D766D79}" type="slidenum">
              <a:rPr b="0" lang="en-US" sz="2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457600" y="6477120"/>
            <a:ext cx="2132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ECS 3401 F 201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xt processing in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ves Lespé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apted from Peter Roosen-Ru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log representation for parsing tex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nt to parse natural language 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way to represent grammar ru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tence --&gt; noun_phrase, verb_phra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s f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sentence(X):- append(Y,Z,X),   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oun_phrase(Y), verb_phrase(Z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er --&gt; [the]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s f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determiner([the]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guess how to split the sequence, inefficient; let constituent parsers dec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 better represent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sentence(S0,S):-    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oun_phrase(S0,S1), verb_phrase(S1,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determiner([the | S],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st argument is sequence to parse and 2nd argument is what is left after removing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 mean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a sentence between S0 and S if 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sentence([the, boy, drinks, the, juice], [])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cc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noun_phrase([the, boy, drinks, the, juice], R)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cceeds with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R 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[drinks, the, juice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inite clause grammar (DCG) not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tence --&gt; noun_phrase,verb_phra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s f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entence(S0,S):- noun_phrase(S0,S1),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verb_phrase(S1,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r --&gt; [the]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s f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determiner([the|S],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nforcing constraints between constituen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se we want to enforce number agre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add extra argument to pass this info between constitu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oun_phrase(N) --&gt; determiner(N), noun(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oun(singular) --&gt; [boy]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oun(plural) --&gt; [boys]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determiner(singular) --&gt; [a]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noun_phrase(N,[a, boys],[])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a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noun_phrase(N,[a, boy],[])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cceeds with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 = sing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turning a parse tree or interpret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a arguments can also be used to return a parse tree or interpre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oun_phrase(np(D,N)) --&gt; determiner(D), noun(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determiner(determiner(a)) --&gt; [a]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oun(noun(boy)) --&gt; [boy]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noun_phrase(PT,[a, boy],[])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cceeds with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PT = np(determiner(a),noun(boy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dding extra tes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invoke predicates for tests or interpretation by putting between {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 match input tok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 accessing a lexic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noun(N,noun(W)) --&gt; [W],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{is_noun(W,N)}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s_noun(boy,singular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rammar writing tip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grammar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very mod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hieve broad coverage with small number of 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lecting a corpus of examples can help design and test gramm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patterns built out of certain types of constitu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log &amp; text processin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log good for analyzing and generating 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sing involve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attern-matc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 &amp; parse-trees a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ecursiv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ata struc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 patterns involv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any alternativ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backtracking is helpfu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eadfa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redicates can analyze and gene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9T20:05:27Z</dcterms:created>
  <dc:creator>PRR</dc:creator>
  <dc:description/>
  <cp:keywords/>
  <dc:language>en-US</dc:language>
  <cp:lastModifiedBy>Yves Lesperance</cp:lastModifiedBy>
  <cp:lastPrinted>2018-12-03T15:19:18Z</cp:lastPrinted>
  <dcterms:modified xsi:type="dcterms:W3CDTF">2018-12-03T15:19:22Z</dcterms:modified>
  <cp:revision>119</cp:revision>
  <dc:subject/>
  <dc:title>Project Gutenberg;text to screen</dc:title>
</cp:coreProperties>
</file>