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0F0EA74-7DBE-43DD-9F52-7BBAAC4B9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E9DF5E-EA22-4878-A5CA-243B2F24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AC2C5C-CD5B-4B57-BB3F-6009E6CAF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1D4938-B393-4992-A052-AE2E40B16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AEE2430-E0F1-4FA6-AC5C-CFFF5AB0E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5E3F23B-D0D5-4404-ADEA-C1DF924DC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5FFFAB5-DD3F-4EBA-8DE5-2A20718A1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897BBFE-2C90-406B-8738-A91F89221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14C2F91-2064-4FE6-8F8C-FA0B8629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35FBBF8-13B2-465C-A5EB-76DDCEA41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09D8CA-F979-4378-8E96-9BEFCFA49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F27BBE2-E07C-43D9-BB86-957376D36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E18C996-414D-470E-882F-E98E7797D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2548BD-6784-4BF7-8962-B63ECD18D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F64F28-F10B-49F3-AD89-D2BDA84EF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33FE44-564A-4C10-88AD-833B6F95D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839902-E1AA-4A2F-95FA-030AE69C4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DB33713-8E8C-43EB-A3C8-047729439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113E17-A51D-4888-B68F-EE60672A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FD272CE-77B5-479D-861C-0E996BF4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58F3ABB-F894-4FA9-AA18-BB5910EC1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8A8F6F0-205B-40FB-BD9B-DA4E2074B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DA536D-4D87-43B0-BFD0-744ED29D4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5883E7-0466-4715-9EB0-D473814E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3CC938-3FAD-4EE0-B619-649735679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4B6FEC-7FE4-4554-B4D3-2E4B1D789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9882-9698-4DDD-9FF1-41AF07024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6C8E-18EA-4BA6-8FDA-68AC8C4D5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500E-DB8D-4436-908B-8EDD03E69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3F8D-7C02-439F-A2CD-5D68197EC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EFC8-F450-4E0C-B39B-45E92ED1E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403488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5F45-5D60-42DC-8C98-DBAF4DE92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85D7-9A4B-4E25-AA3C-EF172DBB5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BC48-9415-438D-8136-9A71A4347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6251-B166-468F-8691-D26D389FB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D614-3FC8-4968-ADD0-8BEA457F5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3488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01BF-6EF4-464F-B228-13B8B3399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34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CA29-F121-4AB5-9186-69BD51828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16120" indent="-436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49200" indent="-4284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612800" indent="-36180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974960" indent="-344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974960" indent="-34452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974960" indent="-34452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8400" y="6411960"/>
            <a:ext cx="4636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f5f5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9268-FBB8-4C00-9A81-2C29812E98F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logo"/>
          <p:cNvPicPr/>
          <p:nvPr/>
        </p:nvPicPr>
        <p:blipFill>
          <a:blip r:embed="rId2"/>
          <a:stretch/>
        </p:blipFill>
        <p:spPr>
          <a:xfrm>
            <a:off x="0" y="0"/>
            <a:ext cx="828720" cy="4190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16120" indent="-43668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49200" indent="-42840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3" marL="1612800" indent="-361800">
              <a:spcBef>
                <a:spcPts val="700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4" marL="1974960" indent="-344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5" marL="1974960" indent="-34452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6" marL="1974960" indent="-344520">
              <a:spcBef>
                <a:spcPts val="700"/>
              </a:spcBef>
              <a:buClr>
                <a:srgbClr val="000000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A00C-B7F7-480F-9461-455DBBD5791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17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CSE 3401: Intro to AI &amp; Logic Prog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Planning as Heuristic Search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28600" y="144792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49200" y="1371600"/>
            <a:ext cx="848988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adings: Russell &amp; Norvig 3</a:t>
            </a:r>
            <a:r>
              <a:rPr b="0" lang="en-US" sz="2800" spc="-1" strike="noStrike" baseline="30000">
                <a:solidFill>
                  <a:srgbClr val="003366"/>
                </a:solidFill>
                <a:latin typeface="Lucida Sans Unicode"/>
              </a:rPr>
              <a:t>rd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edition Chapter 10 (in 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Lucida Sans Unicode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edition, Sections 11.1, 11.2, and 11.4)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C68F-78FF-45E0-BDB4-5107B13EDC5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TRIPS Blocks World Operators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ickup(X)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re:  {clear(X), ontable(X), handempty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dd: {holding(X)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l:  {clear(X), ontable(X), handempty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utdown(X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re:  {holding(X)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dd: {clear(X), ontable(X), handempty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l:  {holding(X)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D588-24C4-4216-B6B2-5D9453F2D1D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TRIPS Blocks World Operators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unstack(X,Y)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re:  {clear(X), on(X,Y), handempty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dd: {holding(X), clear(Y)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l:  {clear(X), on(X,Y), handempty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tack(X,Y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re:  {holding(X),clear(Y)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dd: {on(X,Y), handempty, clear(X)}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Del:  {holding(X),clear(Y)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B986-26DE-44FB-B6A7-8B387867CB3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62120" y="15238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62120" y="19810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762120" y="24382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47920" y="24382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1" name="Line 7"/>
          <p:cNvSpPr/>
          <p:nvPr/>
        </p:nvSpPr>
        <p:spPr>
          <a:xfrm flipV="1">
            <a:off x="137160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137160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198108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1676520" y="1219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04920" y="3200400"/>
            <a:ext cx="16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a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b,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empty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2208960" y="320040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tack(a,b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ckup(d)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5486400" y="1905120"/>
            <a:ext cx="457200" cy="457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4724280" y="2133720"/>
            <a:ext cx="457200" cy="457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4724280" y="259092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1" name="Line 17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5410080" y="1752480"/>
            <a:ext cx="6098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4" name="Line 20"/>
          <p:cNvSpPr/>
          <p:nvPr/>
        </p:nvSpPr>
        <p:spPr>
          <a:xfrm flipV="1">
            <a:off x="5715000" y="13716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580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289548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4572000" y="3276720"/>
            <a:ext cx="1600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a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b,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emp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d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holding(a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clear(b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holding(d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4724280" y="160020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6248520" y="1905120"/>
            <a:ext cx="457200" cy="457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6172200" y="175212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1" name="Line 27"/>
          <p:cNvSpPr/>
          <p:nvPr/>
        </p:nvSpPr>
        <p:spPr>
          <a:xfrm>
            <a:off x="6172200" y="1752480"/>
            <a:ext cx="60948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6781680" y="175248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3" name="Line 29"/>
          <p:cNvSpPr/>
          <p:nvPr/>
        </p:nvSpPr>
        <p:spPr>
          <a:xfrm flipV="1">
            <a:off x="6477120" y="13716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4" name="Line 30"/>
          <p:cNvSpPr/>
          <p:nvPr/>
        </p:nvSpPr>
        <p:spPr>
          <a:xfrm flipV="1">
            <a:off x="6934320" y="175212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6934320" y="1752480"/>
            <a:ext cx="60948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7543800" y="175248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7" name="Line 33"/>
          <p:cNvSpPr/>
          <p:nvPr/>
        </p:nvSpPr>
        <p:spPr>
          <a:xfrm flipV="1">
            <a:off x="7238880" y="13716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6324480" y="44956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not a state!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594360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FAB6-E3A4-42DA-A11B-EC86634A58E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80880" y="1523880"/>
            <a:ext cx="1600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a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b,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emp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ing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ing(d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85800" y="4800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666880" y="1523880"/>
            <a:ext cx="1905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tdown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tdown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ck(a,b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stack(a,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ck(d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ck(d,a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pickup(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stack(b,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81952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6747-1936-4888-B4D2-103D8BB3E9F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chabil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8480" indent="-2584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e continue until the goal G is contained in the state layer, or until the state layer no longer changes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ntuitively, the actions at level 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are the actions that could be executed at the i-th step of some plan, and the facts in level 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are the facts that could be made true after some i-1 step pla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ome of the actions/facts have this property. But not all!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4C47-7076-4114-8777-5F3A4CC078E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chabil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62120" y="19810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62120" y="24382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447920" y="243828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7" name="Line 6"/>
          <p:cNvSpPr/>
          <p:nvPr/>
        </p:nvSpPr>
        <p:spPr>
          <a:xfrm flipV="1">
            <a:off x="137160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37160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198108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0" name="Line 9"/>
          <p:cNvSpPr/>
          <p:nvPr/>
        </p:nvSpPr>
        <p:spPr>
          <a:xfrm flipV="1">
            <a:off x="1676520" y="1219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4920" y="3200400"/>
            <a:ext cx="16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a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b,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empty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751760" y="320040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tack(a,b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ckup(c)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68580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43828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962520" y="1828800"/>
            <a:ext cx="1600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a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(b,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table(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a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(c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empty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holding(a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clear(b),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holding(c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426708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509800" y="32004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ck(c,b)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6172200" y="556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7315200" y="18288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on(c,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6629400" y="3733920"/>
            <a:ext cx="2286000" cy="2895480"/>
          </a:xfrm>
          <a:prstGeom prst="wedgeEllipseCallout">
            <a:avLst>
              <a:gd name="adj1" fmla="val -68541"/>
              <a:gd name="adj2" fmla="val -54277"/>
            </a:avLst>
          </a:prstGeom>
          <a:solidFill>
            <a:srgbClr val="aed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but stack(c,b) cannot be executed after one step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5715000" y="304920"/>
            <a:ext cx="3124080" cy="1447560"/>
          </a:xfrm>
          <a:prstGeom prst="wedgeEllipseCallout">
            <a:avLst>
              <a:gd name="adj1" fmla="val 28050"/>
              <a:gd name="adj2" fmla="val 72916"/>
            </a:avLst>
          </a:prstGeom>
          <a:solidFill>
            <a:srgbClr val="aed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on(c,b) needs 4 actions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E9A0-B85A-4EF6-98C3-40CB0E28C18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Heuristics from Reachability Analysi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Grow the levels until the goal is contained in the final state level S[K].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If the state level stops changing and the goal is not present. The goal is unachievable. (The goal is a set of positive facts, and in STRIPS all preconditions are positive facts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Now do the following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7AC1-BE23-41B0-9211-E86013A6015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Heuristics from Reachability Analysis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6320" y="1153800"/>
            <a:ext cx="8326440" cy="507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CountActions(G,S</a:t>
            </a:r>
            <a:r>
              <a:rPr b="0" lang="en-CA" sz="2400" spc="-1" strike="noStrike" baseline="-25000">
                <a:solidFill>
                  <a:srgbClr val="003366"/>
                </a:solidFill>
                <a:latin typeface="Lucida Sans Unicode"/>
              </a:rPr>
              <a:t>K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)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41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/* Compute the number of actions contained in a relaxed plan achieving the goal. */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Split G into facts in S</a:t>
            </a:r>
            <a:r>
              <a:rPr b="0" lang="en-CA" sz="2400" spc="-1" strike="noStrike" baseline="-25000">
                <a:solidFill>
                  <a:srgbClr val="003366"/>
                </a:solidFill>
                <a:latin typeface="Lucida Sans Unicode"/>
              </a:rPr>
              <a:t>K-1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and elements in S</a:t>
            </a:r>
            <a:r>
              <a:rPr b="0" lang="en-CA" sz="2400" spc="-1" strike="noStrike" baseline="-25000">
                <a:solidFill>
                  <a:srgbClr val="003366"/>
                </a:solidFill>
                <a:latin typeface="Lucida Sans Unicode"/>
              </a:rPr>
              <a:t>K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only. These sets are the previously achieved and just achieved parts of G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Find a </a:t>
            </a:r>
            <a:r>
              <a:rPr b="0" lang="en-CA" sz="2400" spc="-1" strike="noStrike">
                <a:solidFill>
                  <a:srgbClr val="fc0128"/>
                </a:solidFill>
                <a:latin typeface="Lucida Sans Unicode"/>
              </a:rPr>
              <a:t>minimal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 set of actions A whose add-effects cover the just achieved part of G. (The set contains no redundant actions, but it might not be the minimum sized set.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Replace the just achieved part of G with the preconditions of A, call this updated G, NewG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Now return CountAction(NewG,S</a:t>
            </a:r>
            <a:r>
              <a:rPr b="0" lang="en-CA" sz="2400" spc="-1" strike="noStrike" baseline="-25000">
                <a:solidFill>
                  <a:srgbClr val="003366"/>
                </a:solidFill>
                <a:latin typeface="Lucida Sans Unicode"/>
              </a:rPr>
              <a:t>K-1</a:t>
            </a:r>
            <a:r>
              <a:rPr b="0" lang="en-CA" sz="2400" spc="-1" strike="noStrike">
                <a:solidFill>
                  <a:srgbClr val="003366"/>
                </a:solidFill>
                <a:latin typeface="Lucida Sans Unicode"/>
              </a:rPr>
              <a:t>) + number of actions needed to cover the just achieved part of G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119F-7F84-4A7B-A477-E6B965FD389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181480" y="1279440"/>
            <a:ext cx="3848400" cy="4533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ountActs(G,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f</a:t>
            </a:r>
            <a:r>
              <a:rPr b="0" lang="en-US" sz="2800" spc="-1" strike="noStrike" baseline="-50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already in S1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  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New in S2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 = {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  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adds all in G</a:t>
            </a:r>
            <a:r>
              <a:rPr b="1" lang="en-US" sz="1800" spc="-1" strike="noStrike" baseline="-25000">
                <a:solidFill>
                  <a:srgbClr val="919191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the new goal: G</a:t>
            </a:r>
            <a:r>
              <a:rPr b="1" lang="en-US" sz="1800" spc="-1" strike="noStrike" baseline="-25000">
                <a:solidFill>
                  <a:srgbClr val="919191"/>
                </a:solidFill>
                <a:latin typeface="Lucida Sans Unicode"/>
              </a:rPr>
              <a:t>P  </a:t>
            </a:r>
            <a:r>
              <a:rPr b="1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 Pre(A)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turn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1 + CountActs(G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0800" y="914040"/>
            <a:ext cx="484956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Lucida Sans Unicode"/>
              </a:rPr>
              <a:t>legend: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Lucida Sans Unicode"/>
              </a:rPr>
              <a:t>[pre]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Lucida Sans Unicode"/>
              </a:rPr>
              <a:t>act</a:t>
            </a:r>
            <a:r>
              <a:rPr b="0" lang="en-US" sz="2800" spc="-1" strike="noStrike" u="sng">
                <a:solidFill>
                  <a:srgbClr val="00ae00"/>
                </a:solidFill>
                <a:uFillTx/>
                <a:latin typeface="Lucida Sans Unicode"/>
              </a:rPr>
              <a:t>[add]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 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 = {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,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,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We split G into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and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Lucida Sans Unicode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35" name="Line 5"/>
          <p:cNvSpPr/>
          <p:nvPr/>
        </p:nvSpPr>
        <p:spPr>
          <a:xfrm flipH="1" flipV="1">
            <a:off x="1447920" y="365724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1828800" y="3580920"/>
            <a:ext cx="10666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7" name="Line 7"/>
          <p:cNvSpPr/>
          <p:nvPr/>
        </p:nvSpPr>
        <p:spPr>
          <a:xfrm flipV="1">
            <a:off x="1447920" y="3657240"/>
            <a:ext cx="19047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94D8-9717-4BB2-94C5-4C3669C2D0F8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1160" y="914040"/>
            <a:ext cx="443520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Lucida Sans Unicode"/>
              </a:rPr>
              <a:t>Now, we are at level S1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  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[f</a:t>
            </a:r>
            <a:r>
              <a:rPr b="0" lang="en-US" sz="2800" spc="-1" strike="noStrike" baseline="-25000">
                <a:solidFill>
                  <a:srgbClr val="00ae00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ae00"/>
                </a:solidFill>
                <a:latin typeface="Lucida Sans Unicode"/>
              </a:rPr>
              <a:t>]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f</a:t>
            </a:r>
            <a:r>
              <a:rPr b="0" lang="en-US" sz="2800" spc="-1" strike="noStrike" baseline="-25000">
                <a:solidFill>
                  <a:srgbClr val="fc0128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50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We split G1 into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and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2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927680" y="1066680"/>
            <a:ext cx="39862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ountActs(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S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already in S0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New in S1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A = {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 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adds all in G</a:t>
            </a:r>
            <a:r>
              <a:rPr b="1" lang="en-US" sz="1800" spc="-1" strike="noStrike" baseline="-25000">
                <a:solidFill>
                  <a:srgbClr val="919191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//the new goal: G</a:t>
            </a:r>
            <a:r>
              <a:rPr b="1" lang="en-US" sz="1800" spc="-1" strike="noStrike" baseline="-25000">
                <a:solidFill>
                  <a:srgbClr val="919191"/>
                </a:solidFill>
                <a:latin typeface="Lucida Sans Unicode"/>
              </a:rPr>
              <a:t>P  </a:t>
            </a:r>
            <a:r>
              <a:rPr b="1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919191"/>
                </a:solidFill>
                <a:latin typeface="Lucida Sans Unicode"/>
              </a:rPr>
              <a:t> Pre(A)</a:t>
            </a:r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= {f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,f</a:t>
            </a:r>
            <a:r>
              <a:rPr b="0" lang="en-US" sz="2800" spc="-1" strike="noStrike" baseline="-50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turn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2 + CountActs(G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,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= 2 + 0 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91440" y="5884920"/>
            <a:ext cx="797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68200" indent="-268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Lucida Sans Typewriter"/>
              </a:rPr>
              <a:t>So, in total CountActs(G,S2)=1+2=3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9F01-36EA-448E-927A-0954B9E9B56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lanning as a Search Problem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Given a CW-KB representing the initial state, a set of STRIPS or ADL (Action Description Language) operators, and a goal condition we want to achieve (specified either as a conjunction of facts, or as a formula)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planning problem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is determine a sequence of actions that when applied to the initial CW-KB yield an updated CW-KB which satisfies the go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32D7-84E9-4797-929B-B25A2E8D5375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Using the Heuristic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To use CountActions as a heuristic, we build a layered structure from a state S that reaches the goal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Then we CountActions to see how many actions are required in a relaxed pla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We use this count as our heuristic estimate of the distance of S to the goal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Lucida Sans Unicode"/>
              </a:rPr>
              <a:t>This heuristic tends to work better as a best-first search, i.e., when the cost of getting to the current state is ignored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49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C4AB-916A-480A-B5AF-AF1748EF0244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Admissibil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An optimal length plan in the relaxed problem (actions have no deletes) will be a lower bound on the optimal length of a plan in the real problem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However, CountActions </a:t>
            </a:r>
            <a:r>
              <a:rPr b="1" lang="en-US" sz="2400" spc="-1" strike="noStrike">
                <a:solidFill>
                  <a:srgbClr val="003366"/>
                </a:solidFill>
                <a:latin typeface="Lucida Sans Unicode"/>
              </a:rPr>
              <a:t>does NOT compute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the length of the optimal relaxed plan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Lucida Sans Unicode"/>
              </a:rPr>
              <a:t>choice of which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Lucida Sans Unicode"/>
              </a:rPr>
              <a:t>action set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to use to achieve 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G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Lucida Sans Unicode"/>
              </a:rPr>
              <a:t>P</a:t>
            </a:r>
            <a:r>
              <a:rPr b="0" i="1" lang="en-US" sz="24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(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just achieved part of G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) is not necessarily optimal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fact it is NP-Hard to compute the optimal length plan even in the relaxed plan spac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o CountActions will not be admissibl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A363-1678-47F2-9ED8-F4FFF1EE15D7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mpiricall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However, empirically refinements of CountActions performs very well on a number of sample planning domain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5D7B-EB4C-421D-A9BB-5E983C139D0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17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WA 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8840" y="1371600"/>
            <a:ext cx="84898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assical Planning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. No incomplete or uncertain knowledg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490680" indent="-49068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Use the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Closed World Assumption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in our knowledge representation and reasoning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40960" indent="-4204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Knowledge base used to represent a state  of the world is a </a:t>
            </a:r>
            <a:r>
              <a:rPr b="1" lang="en-US" sz="2400" spc="-1" strike="noStrike">
                <a:solidFill>
                  <a:srgbClr val="fc0128"/>
                </a:solidFill>
                <a:latin typeface="Lucida Sans Unicode"/>
              </a:rPr>
              <a:t>list of positive ground atomic facts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840960" indent="-42048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CWA is the assumption that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61800" indent="-420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f a ground atomic fact is not in our list of 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known</a:t>
            </a:r>
            <a:r>
              <a:rPr b="0" lang="ja-JP" sz="24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facts, its negation must be tru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2" marL="1261800" indent="-420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constants mentioned in KB are all the domain object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108F-8586-4E0C-B216-F50C4389E23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State of the Art in Plann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re are annual AI planning systems competitions (e.g. IPC)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Planning Domain Definition Language (PDDL) is a standard in the area; has sublanguages with varying expressivenes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everal state of the art (classical) planning systems perform well on large real world problem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ACE7-8D65-4913-8792-094FAAFA1E6B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Current Research in Plann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STRIPS/classical planning makes very strong assumptions: complete information, deterministic actions, static single-agent world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Much recent work in planning addresses more general forms of planning that avoid such assumption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such cases, a solution may be a branching plan (branching on observations/action outcomes), finite state automaton, or a policy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Hierarchical planning/abstraction is useful to address large real world problems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B252-CA67-44A6-89EF-20124CD85021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lanning As Search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s can be treated as a search problem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initial CW-KB is the initial state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actions are operators mapping a state (a CW-KB) to a new state (an updated CW-KB)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goal is satisfied by any state (CW-KB) that satisfies the goal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AA02-C506-415F-A18E-282304F474A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Example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95200" y="2530440"/>
            <a:ext cx="85896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95200" y="2992320"/>
            <a:ext cx="858960" cy="462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32080" y="2992320"/>
            <a:ext cx="858600" cy="462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871640" y="2190600"/>
            <a:ext cx="1328760" cy="52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335960" y="1758960"/>
            <a:ext cx="208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68200" indent="-268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(b,c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354480" y="1494000"/>
            <a:ext cx="85860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354480" y="1955880"/>
            <a:ext cx="85860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3362400" y="1015920"/>
            <a:ext cx="85860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2602080" y="3265560"/>
            <a:ext cx="161280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4920" bIns="-3492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350440" y="2833560"/>
            <a:ext cx="208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68200" indent="-268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(c,b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5572080" y="2554200"/>
            <a:ext cx="85896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4441680" y="3033720"/>
            <a:ext cx="85896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5578560" y="3033720"/>
            <a:ext cx="85860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374840" y="3538440"/>
            <a:ext cx="1612800" cy="58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843120" y="4141800"/>
            <a:ext cx="1950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68200" indent="-268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(c,table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5227560" y="4373640"/>
            <a:ext cx="85896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3105000" y="4370400"/>
            <a:ext cx="85896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4241880" y="4370400"/>
            <a:ext cx="858600" cy="46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4037040" y="4932360"/>
            <a:ext cx="1612800" cy="58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436920" y="5587920"/>
            <a:ext cx="1951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68200" indent="-268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(a,b)</a:t>
            </a:r>
            <a:endParaRPr b="0" lang="en-US" sz="20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5743440" y="5297400"/>
            <a:ext cx="858960" cy="4618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743440" y="5759280"/>
            <a:ext cx="858960" cy="4622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6880320" y="5759280"/>
            <a:ext cx="858600" cy="4622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268200" indent="-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0BEC-7872-4828-8BB5-B5EF06A4D26E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roblem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Search tree is generally quite larg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85800" indent="-228600">
              <a:spcBef>
                <a:spcPts val="601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randomly reconfiguring 9 blocks takes thousands of CPU second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e representation suggests some structure. Each action only affects a small set of facts, actions depend on each other via their precondition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Planning algorithms are designed to take advantage of the special nature of the representatio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BB1B-36D7-4ACD-9ED5-014A1FEE9749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Planning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We will look at 1 technique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laxed Plan heuristics used with heuristic search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6813-4194-4F46-A005-FFABC4666BB3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chability Analysis.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e idea is to consider what happens if we ignore the </a:t>
            </a:r>
            <a:r>
              <a:rPr b="0" lang="en-US" sz="2800" spc="-1" strike="noStrike">
                <a:solidFill>
                  <a:srgbClr val="fc0128"/>
                </a:solidFill>
                <a:latin typeface="Lucida Sans Unicode"/>
              </a:rPr>
              <a:t>delete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lists of action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is is yields a 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relaxed problem</a:t>
            </a:r>
            <a:r>
              <a:rPr b="0" lang="ja-JP" sz="2800" spc="-1" strike="noStrike">
                <a:solidFill>
                  <a:srgbClr val="003366"/>
                </a:solidFill>
                <a:latin typeface="Lucida Sans Unicode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that can produce a useful heuristic estimate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E395-1AE7-4D6C-B999-A3C0A3EF5B12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chability Analysis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In the relaxed problem actions add new facts, but never delete facts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-266760">
              <a:spcBef>
                <a:spcPts val="700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Then we can do reachability analysis, which is much simpler than searching for a solution.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  <a:p>
            <a:pPr marL="266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211240" y="6411960"/>
            <a:ext cx="127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4B69-DE4D-49D6-B017-3341175630A0}" type="slidenum">
              <a:rPr b="1" lang="en-US" sz="1800" spc="-1" strike="noStrike">
                <a:solidFill>
                  <a:srgbClr val="5f5f5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743200" y="6553080"/>
            <a:ext cx="388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EECS 3401 F18 Fahiem Bacchus &amp; Yves Lesperance</a:t>
            </a:r>
            <a:endParaRPr b="0" lang="en-US" sz="800" spc="-1" strike="noStrike">
              <a:solidFill>
                <a:srgbClr val="003366"/>
              </a:solidFill>
              <a:latin typeface="Lucida Sans Typewriter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Sans Unicode"/>
              </a:rPr>
              <a:t>Reachability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e start with the initial state 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e alternate between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ate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ction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layers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We find all actions whose preconditions are contained in 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. These actions comprise the first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action layer A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The next </a:t>
            </a:r>
            <a:r>
              <a:rPr b="0" lang="en-US" sz="2400" spc="-1" strike="noStrike">
                <a:solidFill>
                  <a:srgbClr val="fc0128"/>
                </a:solidFill>
                <a:latin typeface="Lucida Sans Unicode"/>
              </a:rPr>
              <a:t>state layer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consists of all of 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 as well as the adds of all of the actions in A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-258480">
              <a:spcBef>
                <a:spcPts val="601"/>
              </a:spcBef>
              <a:buClr>
                <a:srgbClr val="fc0128"/>
              </a:buClr>
              <a:buSzPct val="85000"/>
              <a:buFont typeface="Lucida Sans Unico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Sans Unicode"/>
              </a:rPr>
              <a:t>In general</a:t>
            </a:r>
            <a:endParaRPr b="0" lang="en-US" sz="24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64920" indent="-2214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is the set of actions whose preconditions are contained in S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lvl="1" marL="664920" indent="-221400">
              <a:spcBef>
                <a:spcPts val="499"/>
              </a:spcBef>
              <a:buClr>
                <a:srgbClr val="0000ff"/>
              </a:buClr>
              <a:buSzPct val="85000"/>
              <a:buFont typeface="Lucida Sans Unicode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S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Lucida Sans Unicode"/>
              </a:rPr>
              <a:t>i+1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is S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 union the add lists of all of the actions in 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  <a:p>
            <a:pPr marL="258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7:57:09Z</dcterms:created>
  <dc:creator/>
  <dc:description/>
  <dc:language>en-US</dc:language>
  <cp:lastModifiedBy>Yves Lesperance</cp:lastModifiedBy>
  <cp:lastPrinted>2012-03-09T21:14:41Z</cp:lastPrinted>
  <dcterms:modified xsi:type="dcterms:W3CDTF">2018-11-20T13:14:29Z</dcterms:modified>
  <cp:revision>159</cp:revision>
  <dc:subject/>
  <dc:title>CSC384: Intro to Artificial Intelligence Oct 5th.</dc:title>
</cp:coreProperties>
</file>