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d9fe"/>
            </a:gs>
            <a:gs pos="100000">
              <a:srgbClr val="a5a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371600"/>
            <a:ext cx="871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479840" y="3108240"/>
            <a:ext cx="35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205480" y="6508800"/>
            <a:ext cx="14007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7533-F300-47BA-8062-F44D46742267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610240" y="6477120"/>
            <a:ext cx="21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ECS 3401 F 201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low of control, negation, cut,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order programming, tail recurs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ves Lespé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apted from Peter Roosen-Ru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mantics of free variables in \+ i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n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ly, variables in a query are existentially quantified from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p(X), q(X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represent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exis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h that P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&amp; Q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\+ (p(X), q(X)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resent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not the case that there exis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h that P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&amp; Q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o avoid this problem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orks correctly if its argument is instanti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 for example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I):-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member(X,Y), intersect(L,Y,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be instanti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progra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animal(cat). vegetable(turnip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\+ animal(X), vegetable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No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vegetable(X),\+ animal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X = turnip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uarding the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ls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rely on implicit negation in predicates that can be re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edicates with alternative rules, each rule should be logically valid (if backtracking can occ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st thing is repeating the condition with ne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inter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], _, 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[X|I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I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O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inter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], _, 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[X|I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_|L], Y, I):-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bugg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intersect([a], [b, a], []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cee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hibiting backtrack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perat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!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used to control backtra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goal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nifies with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 :-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 :-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…,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 !,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…,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H :- …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ets past the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…,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ail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the parent goal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mmediately fails.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,…, G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Verdan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be retried and the subsequent matching rules w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be attemp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ing ! e.g. inter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t can be used to improve efficiency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], _, 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[X|I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([X|L], Y, I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member(X,Y)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ests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member(X,Y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inter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cut, we can avoid th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], _, 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X|L], Y, [X|I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X,Y), !, 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intersect([_|L], Y, I):-intersect(L, Y, I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that the last 2 rules are a conditional bran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t can be used to define useful featu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goal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be false when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C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,…, C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lds, can wr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G :- C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,…, C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, !, f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provable can be defined using c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G :- G, !, f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\+ 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mplicity hides complexit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/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mposition of goals hides complex control patt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easily represented by traditional flow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be a bad 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nt important aspects of logic and algorithm to be clearly represented and irrelevant details to be left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rol predica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really success)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G :- Cond1; Cond2;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fai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opposite of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repea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ways succeeds, infinite number of choice poin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loopUntilNoMore:- repeat, doStuff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checkNoMo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ail recursion is cleaner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loop :- doStuff, (checkNoMore; loop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cing all solu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test :- member(X, [1, 2, 3]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l, print(X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ai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% no alternative sols for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print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% but member has alternative s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t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nd order features: bagof &amp; setof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bagof(T,G,L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stantiates L to the list of all instances of T such for which G succeeds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bagof(X,(member(X,[2,5,7,3,5]),X &gt;= 3)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X = _G1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L = [5, 7, 3, 5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nd order features: bagof &amp; setof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et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similar to bagof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pt that it removes duplicates from the list, e.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setof(X,(member(X,[2,5,7,3,5]),X &gt;= 3),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X = _G17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L = [3, 5, 7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ollect values of several variables, e.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?- bagof(pair(X,Y),(member(X,[a,b]),member(Y,[c,d])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X = _G1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 = _G15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L = [pair(a, c), pair(a, d), pair(b, c), pair(b, d)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nd order featu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et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bag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called 2nd order features because they are queries about the value of a set or re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logic, this is quantification over a set or re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allowed in first order logic, but can be done in 2nd order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ntering and leav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e steps are labell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: enter the 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t: exit successfully with bindings for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il: exit unsuccessfu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o: look for an alternative 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ports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ail recursion optimization in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have goal A and rule 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: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…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and A unifies with 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…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ce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re are no alternatives left for A and for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…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can simply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repla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by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 execution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uch cases the predicate A 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ail recur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hing left to do in A whe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eds or fails/backtracks, so we can replace call stack frame for A by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’s; recursion can be as space efficient as it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factor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implem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(0,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(N,F):- N &gt; 0, N1 is N – 1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(N1,F1), F is N * F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e to mathematical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not tail-recur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O(N) in stack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factor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implem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(N,F):- fact1(N,1,F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1(0,F,F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1(N,T,F):- N &gt; 0, T1 is T * 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1 is N – 1, fact1(N1,T1,F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ccumu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ail-recursive and each call can replace the previous c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prove correct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.g. appen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[],L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[X|R],L,[X|RL])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R,L,R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ail recursive if first argument is fully instanti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log must detect the fact that there are no alternatives left; may depend on clause indexing mechanism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unification means more relations are tail recursive in Prolog than in other langu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cedural and declarative semantic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 programs have both a declarative/logical semantics and a procedural seman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larative semantics: query holds if it is a logical consequence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al semantics: query succeeds if a matching fact or rule succeed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s order in which goals are attempted, what happens when they fail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pli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plit([],[],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plit([X],[X],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plit([X1,X2|R],[X1|R1],[X2|R2])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plit(R,R1,R2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il recursiv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erg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rge([],L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rge(L,[],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rge([X1|R1],[X2|R2],[X1|R])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order(X1,X2), merge(R1,[X2|R2],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rge([X1|R1],[X2|R2],[X2|R])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ot order(X1,X2), merge([X1|R1],R2,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il recursive, but lack of alternatives may be hard to detect (can use cut to simplif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erge sor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[],[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[X],[X]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L,S):- split(L,L1,L2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L1,S1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sort(L2,S2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rge(S1,S2,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 more on tail recurs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Sterling &amp; Shapiro The Art of Prolog Sec. 11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: Finite State Automa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nite state automa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inite state automaton (Σ, S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δ, F) is a representation of a machine as 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states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ate transition relation/table 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pping current state &amp; input symbol from alphabet Σ to the next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itial stat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t of final states 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epting an inpu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s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 input sequence from an alphabet Σ if, starting in the designated starting state, scanning the input sequence leaves the automaton in a final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automaton that accepts strings of x’s and y’s with an even number of x’s and an odd number of y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on that accepts strings of x’s and y’s with an even number of x’s and an odd number of y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: keep track of whether we have seen even number of x’s and y’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= {ee, eo, oe, oo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δ = {(ee, x, oe), (ee, y, eo),…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 = {eo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sa(Input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cceeds if and only if the fsa accepts or recognizes the sequence (list)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 represented by a predic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initial_state(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states represented by a predic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final_states(List)</a:t>
            </a:r>
            <a:r>
              <a:rPr b="0" lang="en-US" sz="2000" spc="-1" strike="noStrike">
                <a:solidFill>
                  <a:srgbClr val="f9a805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transition table represented by a predic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next_state(State, InputSymbol, Next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: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next_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eed not be a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mplementing fsa/1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sa(Input) :- initial_state(S), scan(Input, S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en-US" sz="2000" spc="-1" strike="noStrike">
                <a:solidFill>
                  <a:srgbClr val="063de8"/>
                </a:solidFill>
                <a:latin typeface="Verdana"/>
              </a:rPr>
              <a:t>sc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Boolean pred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can([], State) :- final_states(F),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member(State, F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can([Symbol | Seq], State) :-     next_state(State, Symbol, Next),    scan(Seq, Next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nd &amp; o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,) &amp;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; and alternative facts and rules that match a goal) are not purely logic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important to consider the order in which goals are attemp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 to right f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to bottom for alternative facts/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sult propag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c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s pumping/result propa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ries around current state and remainder of input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FSA is deterministic, when end of input is reached, can make an accept/reject decision immediately; tail recursion optimization can be appl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FSA is nondeterministic, may have to backtrack; must keep track of remaining alternatives on execution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on-determinis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n-deterministic fsa accepts an input sequence if there exis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t least one sequ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leaves the automaton in one of its final 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fsa(Input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c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arches through all possible choices for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each state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ils only if no sequence leads to a final sta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presenting tab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use binary connector, e. g.,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A-B-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next_state(A,B,C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typing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make it easier to check for err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a805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ee-x-oe. ee-y-e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oe-x-ee. oe-y-oo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a805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a805"/>
                </a:solidFill>
                <a:latin typeface="Verdana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         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vised vers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a805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can([], State) :- final_states(F),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ember(State, F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can([Symbol | Seq], State) 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tate-Symbol-Next,    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scan(Seq, Nex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nd is not always commutative, e.g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ublistV1(S, L):- append(_, L1, L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S, _, L1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.e. S is a sublist of L if L1 is any suffix of L and S is a prefix of L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ublistV2(S, L):- append(S, _, L1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append(_, L1 ,L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.e. S is a sublist of L if S is a prefix of some list L1 and L1 is any suffix of 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nd is not always commutative, e.g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?- sublistV1([c,b], [a, b, c, d]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fal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sublistV2([c,b], [a, b, c, d]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Verdana"/>
              </a:rPr>
              <a:t>ERROR: Out of global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es of or (;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used to regroup several rules with the same h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(X,Y):- mother(X,Y); father(X,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improve efficiency by avoiding redoing u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lower precedence tha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log neg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og use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\+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prov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negation as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from logical ne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\+ goal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cceeds if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goal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ai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preting \+ as negation amounts to making the 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closed-world assum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progra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human(ulysses). human(penelop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mortal(X):- human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?- \+ human(jas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logic, the axioms corresponding to the program 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entai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¬Human(Jaso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20:05:27Z</dcterms:created>
  <dc:creator>PRR</dc:creator>
  <dc:description/>
  <cp:keywords/>
  <dc:language>en-US</dc:language>
  <cp:lastModifiedBy>Yves Lesperance</cp:lastModifiedBy>
  <cp:lastPrinted>2018-10-17T15:28:21Z</cp:lastPrinted>
  <dcterms:modified xsi:type="dcterms:W3CDTF">2018-10-17T15:43:25Z</dcterms:modified>
  <cp:revision>118</cp:revision>
  <dc:subject/>
  <dc:title>Project Gutenberg;text to screen</dc:title>
</cp:coreProperties>
</file>