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9283700" cy="7034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284400" cy="70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26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5258880" y="-360"/>
            <a:ext cx="40230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884320" y="528120"/>
            <a:ext cx="3516480" cy="26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6681960"/>
            <a:ext cx="40226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525888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2799-4564-4C18-B4F1-9C15C9D4D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525924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6501-4ED2-48B7-B863-6C8C4759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2884320" y="528480"/>
            <a:ext cx="3516480" cy="2637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525924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57BF-7CA0-4E2D-B0DE-676760168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2884320" y="528480"/>
            <a:ext cx="3516480" cy="2637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525924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432-EB41-4671-A6A3-B3A6BBA3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2884320" y="528480"/>
            <a:ext cx="3516480" cy="2637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 was on the frontier when n1 was expanded, in which case c(n2) ≥ c(n1) else n1 would not have been selected for expa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 was added to the frontier when n1 was expanded, in which case c(n2) ≥ c(n1) since the path to n2 extends the path to 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525924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9BD4-BA1C-432D-8816-C54271EB3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2884320" y="528480"/>
            <a:ext cx="3516480" cy="2637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&lt;Start, n0, n1, …, nk&gt; be a path with cost less than c(n). Let ni be the last node on this path that has been expanded. &lt;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Start, n0, n1, ni-1,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ni+1, …, n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i+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on the frontier, also c(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i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&lt; c(n) since the cost of the entire path to nk is &lt; c(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ut then uniform-cost would have expanded ni+1 not 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very node on this path must already be expanded, i.e., this path has already been expan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5259240" y="6681960"/>
            <a:ext cx="40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DA90-87F9-4EA3-B12C-2E397114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2884320" y="528480"/>
            <a:ext cx="3516480" cy="2637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28800" y="3341160"/>
            <a:ext cx="7426080" cy="31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eaper path exists, else that path would have been expanded bef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eaper path will be discovered later, as all those paths must be at least a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goal state is expanded the path to it must be opt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769C-9E1B-4A65-9437-7BB5EBF34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A680-DC41-400D-BCEB-ABE55106E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427B-88AF-42B1-B7A7-9AC29492E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99ED-E4DF-4F92-AC0B-D9949255A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0C4A-1E77-4383-8F6E-9882B1EF9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E4CF-7076-4CDD-B1A8-7F76A093A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44DC-AF9D-42F5-AA7F-332693950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A3D0-D322-41D6-BA06-755999AD7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F753-F2F4-4228-B1F9-171464A21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ADCA-2FB6-49C9-9C5B-C1849FD68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33DB-D6EA-4D78-BB11-9D00713E0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B6C1-50C9-4B0D-9873-F5FF2A8BB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05800" y="6411960"/>
            <a:ext cx="4636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f5f5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1538-10FC-4B0A-A344-CC2EA046261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logo"/>
          <p:cNvPicPr/>
          <p:nvPr/>
        </p:nvPicPr>
        <p:blipFill>
          <a:blip r:embed="rId2"/>
          <a:stretch/>
        </p:blipFill>
        <p:spPr>
          <a:xfrm>
            <a:off x="0" y="0"/>
            <a:ext cx="828720" cy="4190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357200" indent="-27468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ickstephenson.com/Cruise/images/Jamaica%20Dunns%20River%20Falls_JPG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4972-9208-4796-AA79-D57025D285E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CSE 3401: Intro to Artificial Intelligence</a:t>
            </a:r>
            <a:br>
              <a:rPr sz="3200"/>
            </a:br>
            <a:r>
              <a:rPr b="1" lang="en-CA" sz="3200" spc="-1" strike="noStrike">
                <a:solidFill>
                  <a:srgbClr val="003366"/>
                </a:solidFill>
                <a:latin typeface="Lucida Sans Unicode"/>
              </a:rPr>
              <a:t>Uninformed Search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Required Readings: R &amp; N Chapter 3, Sec. 1-4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Lecture slides adapted from those of Fahiem Bacchu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E57B-2FEA-4139-A8BC-466D3B95434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ow do we plan our holiday?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must take into account various preferences and constraints to develop a schedul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important technique in developing such a schedule is 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ypothetical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reasoning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, if I fly into Kingston and drive a car to Port Antonio, I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l have to drive on the roads at night. How desirable is this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I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 in Port Antonio and leave at 6:30am, I can arrive a Dunns river falls by 8:00am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2410-7CE8-4420-AE95-DAEE2393839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How do we plan our holiday?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kind of hypothetical reasoning involves asking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at state will I be in after the following sequence of events?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85840" indent="-28584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om this we can reason about what sequence of events one should try to bring about to achieve a desirable stat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5840" indent="-28584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arch is a computational method for capturing a particular version of this kind of reasoning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108F-CFEB-472C-AFAA-F1BEED16808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many difficult questions that are not resolved by search. In particular, the whole question of how does an intelligent system formulate its problem as a search problem is not addressed by sear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5840" indent="-28584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arch only shows how to solve the problem once we have it correctly formulated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AABC-8392-48A8-BAF9-93BB3CABF6CA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he formalism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formulate a problem as a search problem we need the following components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mulate a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ate spac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ver which to search. The state space necessarily involves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bstract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he real problem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mulat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hat allow one to move between different states. The actions are abstractions of actions you could actually perform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dentify 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initial sta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hat best represents your current state and 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desired condi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ne wants to achiev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mulate various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heuristic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o help guide the search proces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877C-49EA-42A2-84D4-83CE49A961F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he formalism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nce the problem has been formulated as a state space search, various algorithms can be utilized to solve the problem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solution to the problem will be a sequence of actions/moves that can transform your current state into state where your desired condition hold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D2A6-6D90-4954-818E-5AB9BD5F08F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1: Romania Travel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62012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85800" y="1219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urrently in Arad, need to get to Bucharest by tomorrow to catch a fligh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EF3F-3A80-4CC6-969F-5D85961F074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1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e spac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the various cities you could be located i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e we are ignoring the low level details of driving, states where you are on the road between cities, etc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drive between neighboring citi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Initial sta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in Ara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Desired condition (Goal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be in a state where you are in Bucharest. (How many states satisfy this condition?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lution will be the route, the sequence of cities to travel through to get to Buchares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E428-FBE7-483F-8AE1-CA7E936D6D9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2. The 8-Puzz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115320" cy="30765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62120" y="4968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n slide a tile into the blank spot. (Equivalently, can think of it as moving the blank around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F187-1493-4CD6-9A3B-AC45A983FC3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2. The 8-Puzz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e spac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The different configurations of the tiles. How many different states?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Moving the blank up, down, left, right. Can every action be performed in every state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Initial sta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as shown on previous slid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Desired condition (Goal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be in a state where the tiles are all in the positions shown on the previous slid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lution will be a sequence of moves of the blank that transform the initial state to a goal stat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838C-7D7F-42CF-92D7-4A1F4DD55C6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2. The 8-Puzz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hough there are 9! different configurations of the tiles (362,880), in fact the state space is divided into two disjoint parts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nly when the blank is in the middle are all four actions possibl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ur goal condition is satisfied by only a single state. But one could easily have a goal condition lik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8 is in the upper left hand corner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many different states satisfy this goal?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5558-3139-486C-9E52-050447C1C76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Why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3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ccessful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uccess in game playing programs based on search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ny other AI problems can be successfully solved by search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actical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ny problems don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 have a simple algorithmic solution. Casting these problems as search problems is often the easiest way of solving them. Search can also be useful in approximation (e.g., local search in optimization problems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ften specialized algorithms cannot be easily modified to take advantage of extra knowledge. Heuristics in search provide a natural way of utilizing extra knowledge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me critical aspects of intelligent behaviour, e.g., planning, can be naturally cast as searc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9189-5864-4681-97EA-01917A943C2C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 the previous two examples, a state in the search space corresponded to a unique state of the world (modulo details we have abstracted away)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ever, states need not map directly to world configurations. Instead, a state could map to the agent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mental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ption of how the world is configured: the agent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knowledg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stat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FCA6-388B-43F5-9968-D63A99EB174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6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e have a vacuum cleaner and two room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ach room may or may not be dirty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vacuum cleaner can move left or right (the action has no effect if there is no room to the right/left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vacuum cleaner can suck; this cleans the room (even if the room was already clean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1"/>
          <a:stretch/>
        </p:blipFill>
        <p:spPr>
          <a:xfrm>
            <a:off x="4653000" y="1955880"/>
            <a:ext cx="4262400" cy="3935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5715000" y="5638680"/>
            <a:ext cx="236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Physical stat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E6F1-2DFA-4F85-857C-45E69D095D6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400032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tate space can consist of a set of states. The agent knows that it is in one of these states, but doesn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 know which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653000" y="1955880"/>
            <a:ext cx="4262400" cy="39351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5334120" y="5638680"/>
            <a:ext cx="28191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oal is to have all rooms clea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3520" y="137160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Knowledge level State Spac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6AD5-D1FC-4096-934E-34CE47CAE79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lete knowledge of the world: agent knows exactly which state it is in. State space states consist of single physical states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rt in {5}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right, suc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653000" y="1955880"/>
            <a:ext cx="4262400" cy="3935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5334120" y="5638680"/>
            <a:ext cx="28191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oal is to have all rooms clea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33520" y="137160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Knowledge level State Spac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9463-A32B-4771-9DC0-3865529E022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knowledge of the world. States consist of sets of physical stat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rt in {1,2,3,4,5,6,7,8}, agent doesn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 have any knowledge of where it i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vertheless, the actions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right, suck, left, suc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chieves the goal.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4653000" y="1955880"/>
            <a:ext cx="4262400" cy="3935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5334120" y="5638680"/>
            <a:ext cx="28191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oal is to have all rooms clea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520" y="137160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Knowledge level State Spac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E1D8-58E6-4AAE-A6F6-4F254568BA3A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8" name="Text Box 5"/>
          <p:cNvSpPr/>
          <p:nvPr/>
        </p:nvSpPr>
        <p:spPr>
          <a:xfrm>
            <a:off x="152280" y="5486400"/>
            <a:ext cx="281952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itial stat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{1,2,3,4,5,6,7,8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1" name="Text Box 10"/>
          <p:cNvSpPr/>
          <p:nvPr/>
        </p:nvSpPr>
        <p:spPr>
          <a:xfrm>
            <a:off x="4191120" y="5562720"/>
            <a:ext cx="99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ight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2" name="Text Box 20"/>
          <p:cNvSpPr/>
          <p:nvPr/>
        </p:nvSpPr>
        <p:spPr>
          <a:xfrm flipV="1">
            <a:off x="5181480" y="1980360"/>
            <a:ext cx="412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3" name="Text Box 21"/>
          <p:cNvSpPr/>
          <p:nvPr/>
        </p:nvSpPr>
        <p:spPr>
          <a:xfrm flipH="1">
            <a:off x="5180760" y="281952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5169240" y="365760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5169240" y="449568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6963-3069-4088-AE8E-03088DF4FF8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0" name="Line 5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2" name="Text Box 7"/>
          <p:cNvSpPr/>
          <p:nvPr/>
        </p:nvSpPr>
        <p:spPr>
          <a:xfrm>
            <a:off x="4191120" y="556272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ck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169240" y="198108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169240" y="28195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5169240" y="358128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181480" y="441972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150680" y="19051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7150680" y="3505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0196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01960" y="26877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201960" y="35258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126000" y="43639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F74B-4AD9-46AD-891D-292EB82CC04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7" name="Line 4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9" name="Text Box 6"/>
          <p:cNvSpPr/>
          <p:nvPr/>
        </p:nvSpPr>
        <p:spPr>
          <a:xfrm>
            <a:off x="4191120" y="556272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ft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0196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01960" y="27637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126000" y="35258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01960" y="42879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218340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183400" y="34495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523116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7212600" y="19256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7238880" y="2743200"/>
            <a:ext cx="1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7150680" y="3505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7212600" y="42879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5231160" y="35258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F0E6-23AF-42D0-BC63-1A5AC07C220D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 3. Vacuum World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6" name="Line 4"/>
          <p:cNvSpPr/>
          <p:nvPr/>
        </p:nvSpPr>
        <p:spPr>
          <a:xfrm>
            <a:off x="39625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73392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6"/>
          <p:cNvSpPr/>
          <p:nvPr/>
        </p:nvSpPr>
        <p:spPr>
          <a:xfrm>
            <a:off x="4191120" y="556272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ck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196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218340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7080" y="26877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83400" y="35258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2107080" y="42879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6000" y="352584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523116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212600" y="1849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7150680" y="266688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5155200" y="26877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7150680" y="3505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136280" y="428796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5169240" y="3505320"/>
            <a:ext cx="43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17DE-9141-4CEC-A447-139A4649C18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re complex situations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agent might be able to perform some sensing actions. These actions change the agent</a:t>
            </a:r>
            <a:r>
              <a:rPr b="0" lang="ja-JP" sz="28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 mental state, not the world configuratio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ith sensing can search for a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ontingen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solution: a solution that is contingent on the outcome of the sensing actions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right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r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suck&gt;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w the issue of interleaving execution and search comes into play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47D0-6B20-4408-9015-FE0FAB704B1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, a holiday in Jamaica 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97" name="Picture 12" descr="Map Of Jamaica "/>
          <p:cNvPicPr/>
          <p:nvPr/>
        </p:nvPicPr>
        <p:blipFill>
          <a:blip r:embed="rId1"/>
          <a:stretch/>
        </p:blipFill>
        <p:spPr>
          <a:xfrm>
            <a:off x="1057320" y="1633680"/>
            <a:ext cx="702936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80B3-2396-4400-8CA0-A859B17450F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More complex situations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tead of complete lack of knowledge, the agent might think that some states of the world are mor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han other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leads to probabilistic models of the search space and different algorithms for solving the problem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ter we will see some techniques for reasoning and making decisions under uncertainty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82A7-07BA-469A-AB4C-C30AD2027EEA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lgorithms for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puts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specified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initial sta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a specific world state or a set of world states representing the agent</a:t>
            </a:r>
            <a:r>
              <a:rPr b="0" lang="ja-JP" sz="24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 knowledge, etc.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uccesso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function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(x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= {set of states that can be reached from stat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ia a single action}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 function that can be applied to a state and returns true if the state is satisfies the goal condition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ep cos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function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C(x,a,y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which determines the cost of moving from state x to state y using action a. (C(x,a,y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f a does not yield y from x)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A933-0811-4FDD-817A-E231D96AD90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lgorithms for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66760"/>
            <a:ext cx="815364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utput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sequence of states leading from the initial state to a state satisfying the goal test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equence might b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notated by the name of the action use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ptimal in cost for some algorithm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A5A3-4E91-4A34-9612-3C635B206D9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3366"/>
                </a:solidFill>
                <a:latin typeface="Lucida Sans Unicode"/>
              </a:rPr>
              <a:t>Algorithms for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Obtaining the action sequen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The set of successors of a state</a:t>
            </a: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x</a:t>
            </a: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might arise from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fferent actions, e.g.,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x → a → y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x → b → z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uccessor function </a:t>
            </a:r>
            <a:r>
              <a:rPr b="0" lang="en-US" sz="2000" spc="-1" strike="noStrike">
                <a:solidFill>
                  <a:srgbClr val="fc0128"/>
                </a:solidFill>
                <a:latin typeface="Lucida Sans Unicode"/>
              </a:rPr>
              <a:t>S(x)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yields a set of states that can be reached from x via a (any) single action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Rather than just return a set of states, we might annotate these states by the action used to obtain them: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S(x) = {&lt;y,a&gt;, &lt;z,b&gt;}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y via action a, z via action b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357200" indent="-2746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S(x) = {&lt;y,a&gt;, &lt;y,b&gt;}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y via action a, also y via alternative action b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8405-C8F1-49E2-BADD-3B904B46C45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ree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166400"/>
            <a:ext cx="8153640" cy="21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suming search space is a tree, not a grap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e use the successor state function to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imula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 exploration of the state spa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itial call has Frontier = initial stat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rontier/fringe is the set of states we haven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 yet explored/expanded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8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33520" y="3429000"/>
            <a:ext cx="8076960" cy="283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8520" indent="-39852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reeSearch(Frontier, Successors, Goal? 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398520" indent="-39852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Frontier is empty return failur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urr = select state from Fronti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(Goal?(Curr)) return Cur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Frontier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= (Frontier – {Curr}) U Successors(Curr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eturn TreeSearch(Frontier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 Successors, Goal?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8A70-849E-4C7B-BABC-A6CAC429F3C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ree search in Prolo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28600" y="1219320"/>
            <a:ext cx="8610480" cy="258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8520" indent="-398520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treeS([[State|Path]|_],Soln) :-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Goal?(State), reverse([State|Path], Soln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398520" indent="-398520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treeS([[State|Path]|Frontier],Soln) :-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GenSuccessors(State,Path,NewPaths)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merge(NewPaths,Frontier,NewFrontier)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Lucida Sans Typewriter"/>
              </a:rPr>
              <a:t>treeS(NewFrontier,Soln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51EE-EBD4-4444-B3F3-89791F0076A8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762120" y="404640"/>
            <a:ext cx="7619760" cy="2895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179280" y="3645000"/>
            <a:ext cx="8763120" cy="24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Ara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Sibiu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Arad, Oradea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Fagaras,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mnicuVilcea 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Arad, Oradea, Sibiu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Bucharest,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mnicuVilcea 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lution: Arad -&gt; Sibiu -&gt; Fagaras -&gt; Bucharest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Cost: 140+99+211 = 45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FCA8-A327-4F99-91EE-F430BECC4469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762120" y="260280"/>
            <a:ext cx="7619760" cy="28958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52280" y="3124080"/>
            <a:ext cx="876312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Ara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Sibiu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Arad, Oradea, Fagaras,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 RimnicuVilce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Arad, Oradea, Sibiu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Pitesi,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raiova&lt;via RimnicuVilcea&gt;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, Timisoara, Arad, Oradea, Sibiu, Craiova&lt;via Pitesi&gt;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Bucharest,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raiova&lt;via RimnicuVilcea&gt;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500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lution: Arad -&gt; Sibiu -&gt; Rimnicu Vilcea -&gt; Pitesti -&gt;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    Bucharest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Cost: 140+80+97+101 =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418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F595-ED11-4183-9B98-F2AD63049384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762120" y="101520"/>
            <a:ext cx="7619760" cy="28958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179280" y="2997360"/>
            <a:ext cx="8763120" cy="28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4600" indent="-174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{</a:t>
            </a: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Arad&lt;&gt;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},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&lt;Arad&gt;, Timisoara&lt;Arad&gt;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Sibiu&lt;Arad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 &lt;Arad&gt;, Timisoara &lt;Arad&gt;, Oradea &lt;Sibiu;Arad&gt;, Fagaras&lt;Sibiu;Arad&gt;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Arad&lt;Sibiu;Arad&gt;,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mnicuVilcea&lt;Sibiu;Arad&gt;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Zerind &lt;Arad&gt;, Timisoara &lt;Arad&gt;, Oradea &lt;Sibiu;Arad&gt;, Fagaras&lt;Sibiu;Arad&gt;, Zerind&lt;Arad;Sibiu;Arad&gt;, Timisoara&lt;Arad;Sibiu;Arad&gt;,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Sibiu&lt;Arad;Sibiu;Arad&gt;,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mnicuVilcea&lt;Sibiu;Arad&gt;},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 solution found, search does not terminate because of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cycl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28CD-6FA1-4152-A5FA-B1B9AB4B1EAC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election Rule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example shows that order states are selected from the frontier has a critical effect on the operation of the sear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ther or not a solution is foun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st of the solution foun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time and space required by the searc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DC4E-AFCB-4B2F-A5EC-7BEACFF8E14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Things to consider 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85800" y="144792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fer to avoid hurricane seaso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les of the road, larger vehicle has right of way (especially trucks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nt to climb up to the top of Dunns river fall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02" name="Picture 6" descr="Map Of Jamaica "/>
          <p:cNvPicPr/>
          <p:nvPr/>
        </p:nvPicPr>
        <p:blipFill>
          <a:blip r:embed="rId1"/>
          <a:stretch/>
        </p:blipFill>
        <p:spPr>
          <a:xfrm>
            <a:off x="1905120" y="3657600"/>
            <a:ext cx="5114880" cy="2612880"/>
          </a:xfrm>
          <a:prstGeom prst="rect">
            <a:avLst/>
          </a:prstGeom>
          <a:ln w="0">
            <a:noFill/>
          </a:ln>
        </p:spPr>
      </p:pic>
      <p:sp>
        <p:nvSpPr>
          <p:cNvPr id="103" name="Oval 7"/>
          <p:cNvSpPr/>
          <p:nvPr/>
        </p:nvSpPr>
        <p:spPr>
          <a:xfrm>
            <a:off x="4724280" y="4572000"/>
            <a:ext cx="381240" cy="304920"/>
          </a:xfrm>
          <a:prstGeom prst="ellipse">
            <a:avLst/>
          </a:prstGeom>
          <a:solidFill>
            <a:srgbClr val="618ff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27CC-D689-47C5-A6AD-28112A98DF41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ritical Properties of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ompletenes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ill the search always find a solution of a solution exists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Optimal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will the search always find the least cost solution? (when actions have costs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Time complex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what is the maximum number of nodes than can be expanded or generated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Space complex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what is the maximum number of nodes that have to be stored in memor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0CFB-352C-4E34-B400-B78E10D3FE4D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nformed Search Strateg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se are strategies that adopt a fixed rule for selecting the next state to be expanded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rule is always the same whatever the search problem being solved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se strategies do not take into account any domain specific information about the particular search problem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pular uninformed search techniques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adth-First, Uniform-Cost, Depth-First, Depth-Limited, and Iterative-Deepening searc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79C1-60A2-4EDC-94CF-6BD01605994D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electing vs. Sort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simple equivalence we will exploit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der the elements on the frontier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ways select the first elemen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y selection rule can be achieved by employing an appropriate ordering of the frontier se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23BE-53FF-44FF-9AF6-082C959EF635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lace the successors of the current state at th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e frontier, which then behaves as a FIFO queu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ample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t the states be the positive integers {0,1,2,…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t each state n have as successors n+1 and n+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 S(1) = {2, 3}; S(10) = {11, 1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rt state 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oal state 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[Draw search space graph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104B-75E4-4426-BDE2-36939F2D61B1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Example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762120" y="1371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85800" y="129528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62120" y="1295280"/>
            <a:ext cx="77724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0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2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2,3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3,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3,3,4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3,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3,4,3,4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4,5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raw search tree]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018B-BBC8-41E6-917A-9ACDE0141A10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asuring time and space complexity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t b be the maximum number of successors of any stat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t d be the number of actions in the shortest solutio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223C-843E-4975-B51A-3E0A4891F696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leteness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length of the path from the initial state to the expanded state must increase monotonically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e replace each expanded state with states on longer path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 shorter paths are expanded prior before any longer pat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ence, eventually we must examine all paths of length d, and thus find the shortest solutio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1483-BF42-417C-B1AA-19DF7A54AB3A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im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# nodes generated at…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0 (root): 1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1: 1* b  [each node has at most b successors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2: b* b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3: b *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..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d: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Level d + 1: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d+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– b = b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– 1) [when last node is successful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Total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1 + 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+ …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d-1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+ b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– 1) =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O(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Lucida Sans Unicode"/>
              </a:rPr>
              <a:t>d+1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ponential, so can only solve small instanc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18C2-5AE8-4644-B6B6-BE32261ED7EF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ac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d+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: If goal node is last node at level d, all of the successors of the other nodes will be on the frontier when the goal node is expanded, i.e. b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– 1)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846B-0E22-4116-B740-159CB16DA54A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mal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ll find shortest path length solution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ast cost solution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general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no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ly if all step costs are equal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EBE-83AA-432F-A9A4-DBB73DFD682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06" name="Picture 5" descr="Jamaica%20Dunns%20River%20Falls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F5E5-26E3-42A6-8F2E-16666EA73992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Bread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18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ace complexity is a real problem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, let b = 10, and say 1000 nodes can be expanded per second and each node requires 100 bytes of storage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62120" y="3276720"/>
          <a:ext cx="7391160" cy="17431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520"/>
                <a:gridCol w="1847880"/>
              </a:tblGrid>
              <a:tr h="45396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h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llisec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yt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mins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M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hrs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G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Lucida Sans Unicode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Rectangle 31"/>
          <p:cNvSpPr/>
          <p:nvPr/>
        </p:nvSpPr>
        <p:spPr>
          <a:xfrm>
            <a:off x="609480" y="533412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68200" indent="-2682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un out of space long before we run out of time in most application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C91C-DE39-464D-A207-30CC69CBAA0A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form Cost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9920" indent="-2599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eep the frontier sorted in increasing cost of the path to a node; behaves like priority queu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ways expand the least cost nod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dentical to Breadth First if each transition has the same cos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9920" indent="-2599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ample: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t the states be the positive integers {0,1,2,…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t each state n have as successors n+1 and n+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ay that the n+1 action has cost 2, while the n+2 action has cost 3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28120" indent="-2664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[Draw search space graph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726E-075E-4E16-90A1-EE49CE0BA79E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form Cost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762120" y="1295280"/>
            <a:ext cx="76197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0[0]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1[2],2[3]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2[3]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2[4],3[5]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2[4],3[5]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3[5],4[6]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3[5],3[5],4[6]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3[6],4[7]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0A07-883D-42E7-99CB-22B7486FC68B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form-Cost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leteness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sume each transition has costs ≥ </a:t>
            </a:r>
            <a:r>
              <a:rPr b="0" lang="el-GR" sz="2400" spc="-1" strike="noStrike">
                <a:solidFill>
                  <a:srgbClr val="000000"/>
                </a:solidFill>
                <a:latin typeface="Lucida Sans Unicode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&gt; 0 (otherwise can have in finite path with finite cost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revious argument used for breadth first search holds: the cost of the expanded state must increase monotonically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lgorithm expands nodes in order of increasing path co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B974-98DD-49F4-969F-34F4648EA0CE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form-Cost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ime and Spac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C*/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where C* is the cost of the optimal solutio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fficulty is that there may be many long paths with cost ≤ C*; Uniform-cost search must explore them al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B78A-C203-4572-9DBF-8174AE510B21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niform-Cost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mal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nds optimal solution if each transition has cost ≥ </a:t>
            </a:r>
            <a:r>
              <a:rPr b="0" lang="el-GR" sz="2400" spc="-1" strike="noStrike">
                <a:solidFill>
                  <a:srgbClr val="000000"/>
                </a:solidFill>
                <a:latin typeface="Lucida Sans Unicode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&gt; 0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plores paths in the search space in increasing order of cost. So must find minimum cost path to a goal before finding any higher costs path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77D0-A1BC-41CA-ACAA-0972D7D18E72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Uniform-Cost Search. Proof of Optimality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t c(n) be the cost of the path to node n. If n2 is expanded after n1 then </a:t>
            </a:r>
            <a:br>
              <a:rPr sz="2800"/>
            </a:b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c(n1) ≤ c(n2)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of: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If n2 was on the frontier when n1 was expanded, in which case c(n2) ≥ c(n1) else n1 would not have been selected for expansio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If n2 was added to the frontier when n1 was expanded, in which case c(n2) ≥ c(n1) since the path to n2 extends the path to n1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If n2 is a successor of a node n3 that was on the frontier or added when n1 was expanded, then c(n2) &gt; c(n3) and c(n3) ≥ c(n1) by the above arguments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4CA9-4059-44D3-AC2F-869177FADB90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Uniform-Cost Search. Proof of Optimality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n is expanded every path with cost strictly less than c(n) has already been expanded (i.e., every node on it has been expanded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of: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Let &lt;Start, n0, n1, …, nk&gt; be a path with cost less than c(n). Let ni be the last node on this path that has been expanded. &lt;</a:t>
            </a:r>
            <a:r>
              <a:rPr b="0" lang="en-US" sz="2000" spc="-1" strike="noStrike">
                <a:solidFill>
                  <a:srgbClr val="153b5d"/>
                </a:solidFill>
                <a:latin typeface="Lucida Sans Unicode"/>
              </a:rPr>
              <a:t>Start, n0, n1, ni-1, ni, ni+1, …, nk&gt;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3b5d"/>
                </a:solidFill>
                <a:latin typeface="Lucida Sans Unicode"/>
              </a:rPr>
              <a:t>ni+1</a:t>
            </a:r>
            <a:r>
              <a:rPr b="0" lang="en-US" sz="2000" spc="-1" strike="noStrike">
                <a:solidFill>
                  <a:srgbClr val="00ae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must be on the frontier, also c(</a:t>
            </a:r>
            <a:r>
              <a:rPr b="0" lang="en-US" sz="2000" spc="-1" strike="noStrike">
                <a:solidFill>
                  <a:srgbClr val="153b5d"/>
                </a:solidFill>
                <a:latin typeface="Lucida Sans Unicode"/>
              </a:rPr>
              <a:t>ni+1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) &lt; c(n) since the cost of the entire path to nk is &lt; c(n)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3b5d"/>
                </a:solidFill>
                <a:latin typeface="Lucida Sans Unicode"/>
              </a:rPr>
              <a:t>But then uniform-cost would have expanded ni+1 not n!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o every node on this path must already be expanded, i.e. this path has already been expanded. QED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3605-59E7-406A-8876-81FD6C7221F0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Uniform-Cost Search. Proof of Optimality.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first time uniform-cost expands a state, it has found the minimal cost path to it (it might later find other paths to the same state)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of: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235ad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No cheaper path exists, else that path would have been expanded befor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235ad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No cheaper path will be discovered later, as all those paths must be at least as expensiv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235ad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3b5d"/>
                </a:solidFill>
                <a:latin typeface="Lucida Sans Unicode"/>
              </a:rPr>
              <a:t>So, when a goal state is expanded, the path to it must be optim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6018-4DC3-49E6-B319-CD209DFF92F8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lace the successors of the current state at th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fron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e frontier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ontier behaves like a stack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E1C4-E723-49E2-8573-F46A18B3787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09" name="Picture 6" descr="Jamaica- Dunns River Falls"/>
          <p:cNvPicPr/>
          <p:nvPr/>
        </p:nvPicPr>
        <p:blipFill>
          <a:blip r:embed="rId1"/>
          <a:stretch/>
        </p:blipFill>
        <p:spPr>
          <a:xfrm>
            <a:off x="3124080" y="1406520"/>
            <a:ext cx="5486400" cy="4411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228600" y="129528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t you want to start your climb at 8:00 am before the crowds arrive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4EB0-1B97-49FB-BD88-B7A2C218AF51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Search 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762120" y="13716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990720" y="1447920"/>
            <a:ext cx="739116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(applied to the example of Breadth First search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0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2,3,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3,4,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3,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4,5,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4,3,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  <a:ea typeface="ＭＳ Ｐゴシック"/>
              </a:rPr>
              <a:t>5,6,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5,4,3,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raw search tree]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9B85-D80B-4F8B-B231-DE549C9919D2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leteness?  </a:t>
            </a: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No!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finite paths cause incompleteness!  Typically come from cycles in search spa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we prune paths with duplicate states, get completeness provided the search space is finit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mality? </a:t>
            </a: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No!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Can find success along a longer branch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8BED-6074-40E0-A61A-F2E872BAA952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im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O(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m is the length of the longest path in the state spa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y? In worst case, expand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 + 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+ …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m-1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m+1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– 1/b - 1=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node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sumes no cycl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y bad if m is much larger than d, but if there are many solution paths it can be much faster than breadth firs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5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AED6-B6CD-49E6-B72C-775791D8DF4B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Backtrack Point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533520" y="1295280"/>
            <a:ext cx="815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t each step, all nodes in the frontier (except the head) are backtrack points (see example and draw the tree for state-space)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se are all siblings of nodes on the current bran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E093-A20F-4C75-B5DD-C95C44D44809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First Propertie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ac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O(bm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linear space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ly explore a single path at a tim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frontier only contains the deepest states on the current path along with 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backtrac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point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n reduce to O(m) if we generate siblings one at a tim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D8C7-54DF-446F-B301-2E0DC06E9B21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Limited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adth first has computational, especially, space problems. Depth first can run off down a very long (or infinite) pat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pth limited search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erform depth first search but only to a pre-specified depth limit L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 node on a path that is more than L steps from the initial state is placed on the Frontier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e “truncate” the search by looking only at paths of length L or less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w infinite length paths are not a problem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But will only find a solution if a solution of length ≤ L exist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7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0D3C-C04C-4456-A401-72336B790B35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Depth Limited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228600" y="1676520"/>
            <a:ext cx="8686800" cy="4664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8520" indent="-398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LS(Frontier, Sucessors, Goal?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398520" indent="-398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Frontier is empty return failur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urr = select state from Fronti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(Goal?(Curr)) return Cur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Depth(Curr) &lt; L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rontier’ = (Frontier – {Curr}) U Successors(Curr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lse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rontier’ = Frontier – {Curr}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CutOffOccured = TRU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turn DLS(Frontier’, Successors, Goal?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F495-7A3F-4DA6-9584-738AA8E7714F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Iterative Deepening Search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ake the idea of depth limited search one step further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rting at depth limit L = 0, we iteratively increase the depth limit, performing a depth limited search for each depth limi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op if no solution is found, or if the depth limited search failed without cutting off any nodes because of the depth limit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Iterative Deepening Search 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28240" y="14479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0}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[DL = 0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0}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[DL = 1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1,2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0}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[DL = 2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1,2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2,3</a:t>
            </a:r>
            <a:r>
              <a:rPr b="0" lang="en-US" sz="2400" spc="-1" strike="noStrike">
                <a:solidFill>
                  <a:srgbClr val="123755"/>
                </a:solidFill>
                <a:latin typeface="Lucida Sans Unicode"/>
              </a:rPr>
              <a:t>,2}, {3,2}, {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3, 4</a:t>
            </a:r>
            <a:r>
              <a:rPr b="0" lang="en-US" sz="2400" spc="-1" strike="noStrike">
                <a:solidFill>
                  <a:srgbClr val="123755"/>
                </a:solidFill>
                <a:latin typeface="Lucida Sans Unicode"/>
              </a:rPr>
              <a:t>}, {4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7960" y="14479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0}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[DL = 3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1,2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2,3,</a:t>
            </a:r>
            <a:r>
              <a:rPr b="0" lang="en-US" sz="2400" spc="-1" strike="noStrike">
                <a:solidFill>
                  <a:srgbClr val="123755"/>
                </a:solidFill>
                <a:latin typeface="Lucida Sans Unicode"/>
              </a:rPr>
              <a:t>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3,4,</a:t>
            </a:r>
            <a:r>
              <a:rPr b="0" lang="en-US" sz="2400" spc="-1" strike="noStrike">
                <a:solidFill>
                  <a:srgbClr val="123755"/>
                </a:solidFill>
                <a:latin typeface="Lucida Sans Unicode"/>
              </a:rPr>
              <a:t>3,2}, {4,3,2}, {3,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{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4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123755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}, {5, 2}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uccess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3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917A-F2C6-4A15-8E87-BF7053776046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FB70-6417-49F9-9EAA-24B30EB73281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Iterative Deepening Search Propertie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Completeness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Yes, if solution of length d exists, will the search will find it when L = d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Time Complexity?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  <a:ea typeface="ＭＳ Ｐゴシック"/>
              </a:rPr>
              <a:t>At first glance, seems bad because nodes are expanded many tim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CA66-9486-4C7D-9383-379D97C5E64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nt to swim in the Blue Lagoon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14" name="Picture 4" descr="Map Of Jamaica 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1946520"/>
          </a:xfrm>
          <a:prstGeom prst="rect">
            <a:avLst/>
          </a:prstGeom>
          <a:ln w="0">
            <a:noFill/>
          </a:ln>
        </p:spPr>
      </p:pic>
      <p:sp>
        <p:nvSpPr>
          <p:cNvPr id="115" name="Oval 5"/>
          <p:cNvSpPr/>
          <p:nvPr/>
        </p:nvSpPr>
        <p:spPr>
          <a:xfrm>
            <a:off x="3124080" y="2057400"/>
            <a:ext cx="304920" cy="228600"/>
          </a:xfrm>
          <a:prstGeom prst="ellipse">
            <a:avLst/>
          </a:prstGeom>
          <a:solidFill>
            <a:srgbClr val="618ff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16" name="Picture 8" descr="Blue Lagoon - Jamaica"/>
          <p:cNvPicPr/>
          <p:nvPr/>
        </p:nvPicPr>
        <p:blipFill>
          <a:blip r:embed="rId2"/>
          <a:stretch/>
        </p:blipFill>
        <p:spPr>
          <a:xfrm>
            <a:off x="4572000" y="1143000"/>
            <a:ext cx="3736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4A2-A7D3-4A80-92DE-9E7917B5D7A7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Iterative Deepening Search Propertie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Time Complexity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(d+1)b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db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(d-1)b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… + b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d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= O(b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d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[root expanded d+1 times, level 1 nodes 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	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expanded d times, …]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724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E.g. b=4, d=1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(11)*4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10*4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9*4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+ … + 2*4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9 = 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815,55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CA" sz="2400" spc="-1" strike="noStrike" baseline="30000">
                <a:solidFill>
                  <a:srgbClr val="003366"/>
                </a:solidFill>
                <a:latin typeface="Lucida Sans Unicode"/>
              </a:rPr>
              <a:t>10 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= 1,048,576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Most nodes lie on bottom layer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079640" indent="-16524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In fact IDS can be more efficient than breadth first search: nodes at limit are not expanded. BFS must expand all nodes until it expands a goal nod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AAB5-68AC-46B8-AAAE-30B64CD96763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Iterative Deepening Search Propertie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Space Complexity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O(bd) Still linear!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Optimal?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Will find shortest length solution which is optimal if costs are uniform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If costs are not uniform, we can use a 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cost</a:t>
            </a:r>
            <a:r>
              <a:rPr b="0" lang="ja-JP" sz="20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 bound instead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Only expand paths of cost less than the cost bound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Keep track of the minimum cost unexpanded path in each depth first iteration, increase the cost bound to this on the next iteration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499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Lucida Sans Unicode"/>
              </a:rPr>
              <a:t>This can be very expensive. Need as many iterations of the search as there are distinct path costs.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BFEB-7821-47BF-A65F-4C3A72037CB6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Iterative Deepening Search Propertie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868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Consider space with three paths of length 3, but each action having a distinct cost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DD0C-8D5F-4378-854E-A62BCBD90B88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ycle Check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th checking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ths are stored on the frontier (this allows us to output the solution path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&lt;S,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…,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gt; is a path to nod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nd we exp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o obtain child c, we have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081080" indent="-27144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S,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…,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c&gt;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 the path to “c”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th checking: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Ensure that the state c is not equal to the state reached by any ancestor of c along this path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008F-A1BD-453B-ACB9-82EC2FD0A342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ath Checking 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576360" y="3645000"/>
            <a:ext cx="576000" cy="43164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Ara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3" name="Oval 4"/>
          <p:cNvSpPr/>
          <p:nvPr/>
        </p:nvSpPr>
        <p:spPr>
          <a:xfrm>
            <a:off x="1403280" y="3645000"/>
            <a:ext cx="82872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Lugoj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64" name="AutoShape 5"/>
          <p:cNvCxnSpPr>
            <a:stCxn id="465" idx="3"/>
            <a:endCxn id="462" idx="0"/>
          </p:cNvCxnSpPr>
          <p:nvPr/>
        </p:nvCxnSpPr>
        <p:spPr>
          <a:xfrm flipH="1">
            <a:off x="865080" y="2995560"/>
            <a:ext cx="70200" cy="650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AutoShape 6"/>
          <p:cNvCxnSpPr>
            <a:stCxn id="465" idx="5"/>
            <a:endCxn id="463" idx="0"/>
          </p:cNvCxnSpPr>
          <p:nvPr/>
        </p:nvCxnSpPr>
        <p:spPr>
          <a:xfrm>
            <a:off x="1800360" y="2995560"/>
            <a:ext cx="18000" cy="650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Oval 7"/>
          <p:cNvSpPr/>
          <p:nvPr/>
        </p:nvSpPr>
        <p:spPr>
          <a:xfrm>
            <a:off x="4140360" y="2781360"/>
            <a:ext cx="93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Zerin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8" name="Oval 8"/>
          <p:cNvSpPr/>
          <p:nvPr/>
        </p:nvSpPr>
        <p:spPr>
          <a:xfrm>
            <a:off x="4643280" y="3645000"/>
            <a:ext cx="93672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Oradea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69" name="AutoShape 9"/>
          <p:cNvCxnSpPr>
            <a:stCxn id="467" idx="3"/>
            <a:endCxn id="470" idx="0"/>
          </p:cNvCxnSpPr>
          <p:nvPr/>
        </p:nvCxnSpPr>
        <p:spPr>
          <a:xfrm flipH="1">
            <a:off x="3636360" y="3149280"/>
            <a:ext cx="640440" cy="424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AutoShape 10"/>
          <p:cNvCxnSpPr>
            <a:stCxn id="467" idx="5"/>
            <a:endCxn id="468" idx="0"/>
          </p:cNvCxnSpPr>
          <p:nvPr/>
        </p:nvCxnSpPr>
        <p:spPr>
          <a:xfrm>
            <a:off x="4940280" y="3149640"/>
            <a:ext cx="17208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Oval 11"/>
          <p:cNvSpPr/>
          <p:nvPr/>
        </p:nvSpPr>
        <p:spPr>
          <a:xfrm>
            <a:off x="755640" y="2565360"/>
            <a:ext cx="1224000" cy="503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imisoara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72" name="AutoShape 12"/>
          <p:cNvCxnSpPr>
            <a:stCxn id="473" idx="4"/>
            <a:endCxn id="467" idx="0"/>
          </p:cNvCxnSpPr>
          <p:nvPr/>
        </p:nvCxnSpPr>
        <p:spPr>
          <a:xfrm flipH="1">
            <a:off x="4608000" y="1915920"/>
            <a:ext cx="108720" cy="865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Oval 13"/>
          <p:cNvSpPr/>
          <p:nvPr/>
        </p:nvSpPr>
        <p:spPr>
          <a:xfrm>
            <a:off x="4427640" y="1484280"/>
            <a:ext cx="57600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Ara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74" name="AutoShape 14"/>
          <p:cNvCxnSpPr>
            <a:stCxn id="473" idx="2"/>
            <a:endCxn id="465" idx="7"/>
          </p:cNvCxnSpPr>
          <p:nvPr/>
        </p:nvCxnSpPr>
        <p:spPr>
          <a:xfrm flipH="1">
            <a:off x="1800360" y="1700280"/>
            <a:ext cx="2627640" cy="938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AutoShape 15"/>
          <p:cNvCxnSpPr>
            <a:endCxn id="476" idx="0"/>
          </p:cNvCxnSpPr>
          <p:nvPr/>
        </p:nvCxnSpPr>
        <p:spPr>
          <a:xfrm>
            <a:off x="5076720" y="1700280"/>
            <a:ext cx="2617200" cy="937440"/>
          </a:xfrm>
          <a:prstGeom prst="straightConnector1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477" name="Oval 16"/>
          <p:cNvSpPr/>
          <p:nvPr/>
        </p:nvSpPr>
        <p:spPr>
          <a:xfrm>
            <a:off x="108000" y="4653000"/>
            <a:ext cx="1295280" cy="43164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imisoara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78" name="Oval 17"/>
          <p:cNvSpPr/>
          <p:nvPr/>
        </p:nvSpPr>
        <p:spPr>
          <a:xfrm>
            <a:off x="1547640" y="4653000"/>
            <a:ext cx="104472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Mehadia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79" name="AutoShape 18"/>
          <p:cNvCxnSpPr>
            <a:stCxn id="463" idx="3"/>
            <a:endCxn id="477" idx="0"/>
          </p:cNvCxnSpPr>
          <p:nvPr/>
        </p:nvCxnSpPr>
        <p:spPr>
          <a:xfrm flipH="1">
            <a:off x="755280" y="4012920"/>
            <a:ext cx="768960" cy="64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AutoShape 19"/>
          <p:cNvCxnSpPr>
            <a:stCxn id="463" idx="5"/>
            <a:endCxn id="478" idx="0"/>
          </p:cNvCxnSpPr>
          <p:nvPr/>
        </p:nvCxnSpPr>
        <p:spPr>
          <a:xfrm flipH="1">
            <a:off x="2069640" y="4012920"/>
            <a:ext cx="41760" cy="64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Line 20"/>
          <p:cNvSpPr/>
          <p:nvPr/>
        </p:nvSpPr>
        <p:spPr>
          <a:xfrm flipH="1">
            <a:off x="1763640" y="508464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2" name="Line 21"/>
          <p:cNvSpPr/>
          <p:nvPr/>
        </p:nvSpPr>
        <p:spPr>
          <a:xfrm>
            <a:off x="2195640" y="508464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70" name="Oval 22"/>
          <p:cNvSpPr/>
          <p:nvPr/>
        </p:nvSpPr>
        <p:spPr>
          <a:xfrm>
            <a:off x="3348000" y="3573360"/>
            <a:ext cx="576360" cy="43200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Ara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83" name="AutoShape 23"/>
          <p:cNvCxnSpPr>
            <a:stCxn id="468" idx="3"/>
            <a:endCxn id="484" idx="0"/>
          </p:cNvCxnSpPr>
          <p:nvPr/>
        </p:nvCxnSpPr>
        <p:spPr>
          <a:xfrm flipH="1">
            <a:off x="3997080" y="4012920"/>
            <a:ext cx="78336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5" name="AutoShape 24"/>
          <p:cNvCxnSpPr>
            <a:stCxn id="468" idx="5"/>
            <a:endCxn id="486" idx="0"/>
          </p:cNvCxnSpPr>
          <p:nvPr/>
        </p:nvCxnSpPr>
        <p:spPr>
          <a:xfrm>
            <a:off x="5443560" y="4013280"/>
            <a:ext cx="208800" cy="497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Oval 25"/>
          <p:cNvSpPr/>
          <p:nvPr/>
        </p:nvSpPr>
        <p:spPr>
          <a:xfrm>
            <a:off x="3564000" y="4429080"/>
            <a:ext cx="865080" cy="43200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Zerin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6" name="Oval 26"/>
          <p:cNvSpPr/>
          <p:nvPr/>
        </p:nvSpPr>
        <p:spPr>
          <a:xfrm>
            <a:off x="5362560" y="451008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Sibiu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87" name="AutoShape 27"/>
          <p:cNvCxnSpPr>
            <a:stCxn id="486" idx="3"/>
            <a:endCxn id="488" idx="0"/>
          </p:cNvCxnSpPr>
          <p:nvPr/>
        </p:nvCxnSpPr>
        <p:spPr>
          <a:xfrm flipH="1">
            <a:off x="3994920" y="4878360"/>
            <a:ext cx="14518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28"/>
          <p:cNvCxnSpPr>
            <a:stCxn id="486" idx="4"/>
            <a:endCxn id="490" idx="0"/>
          </p:cNvCxnSpPr>
          <p:nvPr/>
        </p:nvCxnSpPr>
        <p:spPr>
          <a:xfrm flipH="1">
            <a:off x="4966560" y="4941720"/>
            <a:ext cx="685080" cy="64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8" name="Oval 29"/>
          <p:cNvSpPr/>
          <p:nvPr/>
        </p:nvSpPr>
        <p:spPr>
          <a:xfrm>
            <a:off x="3706920" y="5445000"/>
            <a:ext cx="576000" cy="43200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Ara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4498920" y="5589720"/>
            <a:ext cx="93672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Fagara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91" name="AutoShape 31"/>
          <p:cNvCxnSpPr>
            <a:stCxn id="486" idx="5"/>
            <a:endCxn id="492" idx="0"/>
          </p:cNvCxnSpPr>
          <p:nvPr/>
        </p:nvCxnSpPr>
        <p:spPr>
          <a:xfrm>
            <a:off x="5854680" y="4878360"/>
            <a:ext cx="194400" cy="71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2" name="Oval 32"/>
          <p:cNvSpPr/>
          <p:nvPr/>
        </p:nvSpPr>
        <p:spPr>
          <a:xfrm>
            <a:off x="5506920" y="5589720"/>
            <a:ext cx="108108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. Vilcea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76" name="AutoShape 33"/>
          <p:cNvSpPr/>
          <p:nvPr/>
        </p:nvSpPr>
        <p:spPr>
          <a:xfrm>
            <a:off x="7164360" y="2637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7399-57AD-45A1-B892-3C1A7C46C702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ath Checking 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6" name="Oval 3"/>
          <p:cNvSpPr/>
          <p:nvPr/>
        </p:nvSpPr>
        <p:spPr>
          <a:xfrm>
            <a:off x="1547640" y="3573360"/>
            <a:ext cx="57636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7" name="Oval 4"/>
          <p:cNvSpPr/>
          <p:nvPr/>
        </p:nvSpPr>
        <p:spPr>
          <a:xfrm>
            <a:off x="971640" y="4437000"/>
            <a:ext cx="57600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8" name="Oval 5"/>
          <p:cNvSpPr/>
          <p:nvPr/>
        </p:nvSpPr>
        <p:spPr>
          <a:xfrm>
            <a:off x="2050920" y="4437000"/>
            <a:ext cx="57636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499" name="AutoShape 6"/>
          <p:cNvCxnSpPr>
            <a:stCxn id="496" idx="3"/>
            <a:endCxn id="497" idx="0"/>
          </p:cNvCxnSpPr>
          <p:nvPr/>
        </p:nvCxnSpPr>
        <p:spPr>
          <a:xfrm flipH="1">
            <a:off x="1260000" y="394164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AutoShape 7"/>
          <p:cNvCxnSpPr>
            <a:stCxn id="496" idx="5"/>
            <a:endCxn id="498" idx="0"/>
          </p:cNvCxnSpPr>
          <p:nvPr/>
        </p:nvCxnSpPr>
        <p:spPr>
          <a:xfrm>
            <a:off x="2039760" y="394164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Oval 8"/>
          <p:cNvSpPr/>
          <p:nvPr/>
        </p:nvSpPr>
        <p:spPr>
          <a:xfrm>
            <a:off x="3492360" y="357192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2" name="Oval 9"/>
          <p:cNvSpPr/>
          <p:nvPr/>
        </p:nvSpPr>
        <p:spPr>
          <a:xfrm>
            <a:off x="2916360" y="4435560"/>
            <a:ext cx="57600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3" name="Oval 10"/>
          <p:cNvSpPr/>
          <p:nvPr/>
        </p:nvSpPr>
        <p:spPr>
          <a:xfrm>
            <a:off x="3995640" y="443556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04" name="AutoShape 11"/>
          <p:cNvCxnSpPr>
            <a:stCxn id="501" idx="3"/>
            <a:endCxn id="502" idx="0"/>
          </p:cNvCxnSpPr>
          <p:nvPr/>
        </p:nvCxnSpPr>
        <p:spPr>
          <a:xfrm flipH="1">
            <a:off x="320472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12"/>
          <p:cNvCxnSpPr>
            <a:stCxn id="501" idx="5"/>
            <a:endCxn id="503" idx="0"/>
          </p:cNvCxnSpPr>
          <p:nvPr/>
        </p:nvCxnSpPr>
        <p:spPr>
          <a:xfrm>
            <a:off x="3984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Oval 13"/>
          <p:cNvSpPr/>
          <p:nvPr/>
        </p:nvSpPr>
        <p:spPr>
          <a:xfrm>
            <a:off x="5292720" y="357192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716360" y="443556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08" name="Oval 15"/>
          <p:cNvSpPr/>
          <p:nvPr/>
        </p:nvSpPr>
        <p:spPr>
          <a:xfrm>
            <a:off x="5796000" y="443556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09" name="AutoShape 16"/>
          <p:cNvCxnSpPr>
            <a:stCxn id="506" idx="3"/>
            <a:endCxn id="507" idx="0"/>
          </p:cNvCxnSpPr>
          <p:nvPr/>
        </p:nvCxnSpPr>
        <p:spPr>
          <a:xfrm flipH="1">
            <a:off x="500508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AutoShape 17"/>
          <p:cNvCxnSpPr>
            <a:stCxn id="506" idx="5"/>
            <a:endCxn id="508" idx="0"/>
          </p:cNvCxnSpPr>
          <p:nvPr/>
        </p:nvCxnSpPr>
        <p:spPr>
          <a:xfrm>
            <a:off x="5784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Oval 18"/>
          <p:cNvSpPr/>
          <p:nvPr/>
        </p:nvSpPr>
        <p:spPr>
          <a:xfrm>
            <a:off x="7164360" y="357192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12" name="Oval 19"/>
          <p:cNvSpPr/>
          <p:nvPr/>
        </p:nvSpPr>
        <p:spPr>
          <a:xfrm>
            <a:off x="6588000" y="443556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13" name="Oval 20"/>
          <p:cNvSpPr/>
          <p:nvPr/>
        </p:nvSpPr>
        <p:spPr>
          <a:xfrm>
            <a:off x="7667640" y="443556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6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14" name="AutoShape 21"/>
          <p:cNvCxnSpPr>
            <a:stCxn id="511" idx="3"/>
            <a:endCxn id="512" idx="0"/>
          </p:cNvCxnSpPr>
          <p:nvPr/>
        </p:nvCxnSpPr>
        <p:spPr>
          <a:xfrm flipH="1">
            <a:off x="687672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AutoShape 22"/>
          <p:cNvCxnSpPr>
            <a:stCxn id="511" idx="5"/>
            <a:endCxn id="513" idx="0"/>
          </p:cNvCxnSpPr>
          <p:nvPr/>
        </p:nvCxnSpPr>
        <p:spPr>
          <a:xfrm>
            <a:off x="7656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Oval 23"/>
          <p:cNvSpPr/>
          <p:nvPr/>
        </p:nvSpPr>
        <p:spPr>
          <a:xfrm>
            <a:off x="2556000" y="2637000"/>
            <a:ext cx="57600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17" name="AutoShape 24"/>
          <p:cNvCxnSpPr>
            <a:stCxn id="516" idx="3"/>
            <a:endCxn id="496" idx="7"/>
          </p:cNvCxnSpPr>
          <p:nvPr/>
        </p:nvCxnSpPr>
        <p:spPr>
          <a:xfrm flipH="1">
            <a:off x="2039040" y="3004920"/>
            <a:ext cx="60084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AutoShape 25"/>
          <p:cNvCxnSpPr>
            <a:stCxn id="516" idx="5"/>
            <a:endCxn id="501" idx="1"/>
          </p:cNvCxnSpPr>
          <p:nvPr/>
        </p:nvCxnSpPr>
        <p:spPr>
          <a:xfrm>
            <a:off x="3048120" y="3005280"/>
            <a:ext cx="529200" cy="63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9" name="Oval 26"/>
          <p:cNvSpPr/>
          <p:nvPr/>
        </p:nvSpPr>
        <p:spPr>
          <a:xfrm>
            <a:off x="6288120" y="2637000"/>
            <a:ext cx="57636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20" name="AutoShape 27"/>
          <p:cNvCxnSpPr>
            <a:stCxn id="519" idx="3"/>
          </p:cNvCxnSpPr>
          <p:nvPr/>
        </p:nvCxnSpPr>
        <p:spPr>
          <a:xfrm flipH="1">
            <a:off x="5771520" y="3004920"/>
            <a:ext cx="60084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AutoShape 28"/>
          <p:cNvCxnSpPr>
            <a:stCxn id="519" idx="5"/>
          </p:cNvCxnSpPr>
          <p:nvPr/>
        </p:nvCxnSpPr>
        <p:spPr>
          <a:xfrm>
            <a:off x="6780240" y="3005280"/>
            <a:ext cx="529200" cy="63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Oval 29"/>
          <p:cNvSpPr/>
          <p:nvPr/>
        </p:nvSpPr>
        <p:spPr>
          <a:xfrm>
            <a:off x="4427640" y="1484280"/>
            <a:ext cx="57600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23" name="AutoShape 30"/>
          <p:cNvCxnSpPr>
            <a:endCxn id="516" idx="7"/>
          </p:cNvCxnSpPr>
          <p:nvPr/>
        </p:nvCxnSpPr>
        <p:spPr>
          <a:xfrm flipH="1">
            <a:off x="3047760" y="1844280"/>
            <a:ext cx="1451520" cy="85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1"/>
          <p:cNvCxnSpPr>
            <a:endCxn id="519" idx="1"/>
          </p:cNvCxnSpPr>
          <p:nvPr/>
        </p:nvCxnSpPr>
        <p:spPr>
          <a:xfrm>
            <a:off x="4906440" y="1844280"/>
            <a:ext cx="1466280" cy="85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26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B8CD-4030-4552-A0FC-0695D2DCA1EC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ycle Check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ycle Checking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eep track of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ll stat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previously expanded during the searc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we exp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o obtain child c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sure that c is not equal to any previously expanded state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s is called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cycle check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or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multiple path check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y can’t we utilize this technique with depth-first search?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we use cycle checking in depth-first search what happens to space complexity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D337-5D74-4901-B8EF-33B0FF355FC6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ycle Checking 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2" name="Oval 3"/>
          <p:cNvSpPr/>
          <p:nvPr/>
        </p:nvSpPr>
        <p:spPr>
          <a:xfrm>
            <a:off x="1547640" y="3573360"/>
            <a:ext cx="57636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3" name="Oval 4"/>
          <p:cNvSpPr/>
          <p:nvPr/>
        </p:nvSpPr>
        <p:spPr>
          <a:xfrm>
            <a:off x="971640" y="4437000"/>
            <a:ext cx="57600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4" name="Oval 5"/>
          <p:cNvSpPr/>
          <p:nvPr/>
        </p:nvSpPr>
        <p:spPr>
          <a:xfrm>
            <a:off x="2050920" y="4437000"/>
            <a:ext cx="57636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35" name="AutoShape 6"/>
          <p:cNvCxnSpPr>
            <a:stCxn id="532" idx="3"/>
            <a:endCxn id="533" idx="0"/>
          </p:cNvCxnSpPr>
          <p:nvPr/>
        </p:nvCxnSpPr>
        <p:spPr>
          <a:xfrm flipH="1">
            <a:off x="1260000" y="394164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AutoShape 7"/>
          <p:cNvCxnSpPr>
            <a:stCxn id="532" idx="5"/>
            <a:endCxn id="534" idx="0"/>
          </p:cNvCxnSpPr>
          <p:nvPr/>
        </p:nvCxnSpPr>
        <p:spPr>
          <a:xfrm>
            <a:off x="2039760" y="394164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Oval 8"/>
          <p:cNvSpPr/>
          <p:nvPr/>
        </p:nvSpPr>
        <p:spPr>
          <a:xfrm>
            <a:off x="3492360" y="3571920"/>
            <a:ext cx="576360" cy="43164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8" name="Oval 9"/>
          <p:cNvSpPr/>
          <p:nvPr/>
        </p:nvSpPr>
        <p:spPr>
          <a:xfrm>
            <a:off x="2916360" y="4435560"/>
            <a:ext cx="57600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901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9" name="Oval 10"/>
          <p:cNvSpPr/>
          <p:nvPr/>
        </p:nvSpPr>
        <p:spPr>
          <a:xfrm>
            <a:off x="3995640" y="443556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901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40" name="AutoShape 11"/>
          <p:cNvCxnSpPr>
            <a:stCxn id="537" idx="3"/>
            <a:endCxn id="538" idx="0"/>
          </p:cNvCxnSpPr>
          <p:nvPr/>
        </p:nvCxnSpPr>
        <p:spPr>
          <a:xfrm flipH="1">
            <a:off x="320472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1" name="AutoShape 12"/>
          <p:cNvCxnSpPr>
            <a:stCxn id="537" idx="5"/>
            <a:endCxn id="539" idx="0"/>
          </p:cNvCxnSpPr>
          <p:nvPr/>
        </p:nvCxnSpPr>
        <p:spPr>
          <a:xfrm>
            <a:off x="3984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Oval 13"/>
          <p:cNvSpPr/>
          <p:nvPr/>
        </p:nvSpPr>
        <p:spPr>
          <a:xfrm>
            <a:off x="5292720" y="357192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3" name="Oval 14"/>
          <p:cNvSpPr/>
          <p:nvPr/>
        </p:nvSpPr>
        <p:spPr>
          <a:xfrm>
            <a:off x="4716360" y="443556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4" name="Oval 15"/>
          <p:cNvSpPr/>
          <p:nvPr/>
        </p:nvSpPr>
        <p:spPr>
          <a:xfrm>
            <a:off x="5796000" y="443556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45" name="AutoShape 16"/>
          <p:cNvCxnSpPr>
            <a:stCxn id="542" idx="3"/>
            <a:endCxn id="543" idx="0"/>
          </p:cNvCxnSpPr>
          <p:nvPr/>
        </p:nvCxnSpPr>
        <p:spPr>
          <a:xfrm flipH="1">
            <a:off x="500508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6" name="AutoShape 17"/>
          <p:cNvCxnSpPr>
            <a:stCxn id="542" idx="5"/>
            <a:endCxn id="544" idx="0"/>
          </p:cNvCxnSpPr>
          <p:nvPr/>
        </p:nvCxnSpPr>
        <p:spPr>
          <a:xfrm>
            <a:off x="5784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7" name="Oval 18"/>
          <p:cNvSpPr/>
          <p:nvPr/>
        </p:nvSpPr>
        <p:spPr>
          <a:xfrm>
            <a:off x="7164360" y="357192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8" name="Oval 19"/>
          <p:cNvSpPr/>
          <p:nvPr/>
        </p:nvSpPr>
        <p:spPr>
          <a:xfrm>
            <a:off x="6588000" y="443556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9" name="Oval 20"/>
          <p:cNvSpPr/>
          <p:nvPr/>
        </p:nvSpPr>
        <p:spPr>
          <a:xfrm>
            <a:off x="7667640" y="4435560"/>
            <a:ext cx="576360" cy="431640"/>
          </a:xfrm>
          <a:prstGeom prst="ellipse">
            <a:avLst/>
          </a:prstGeom>
          <a:gradFill rotWithShape="0">
            <a:gsLst>
              <a:gs pos="0">
                <a:srgbClr val="fc0128">
                  <a:alpha val="15294"/>
                </a:srgbClr>
              </a:gs>
              <a:gs pos="100000">
                <a:srgbClr val="750013">
                  <a:alpha val="18039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50" name="AutoShape 21"/>
          <p:cNvCxnSpPr>
            <a:stCxn id="547" idx="3"/>
            <a:endCxn id="548" idx="0"/>
          </p:cNvCxnSpPr>
          <p:nvPr/>
        </p:nvCxnSpPr>
        <p:spPr>
          <a:xfrm flipH="1">
            <a:off x="6876720" y="3940200"/>
            <a:ext cx="37224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51" name="AutoShape 22"/>
          <p:cNvCxnSpPr>
            <a:stCxn id="547" idx="5"/>
            <a:endCxn id="549" idx="0"/>
          </p:cNvCxnSpPr>
          <p:nvPr/>
        </p:nvCxnSpPr>
        <p:spPr>
          <a:xfrm>
            <a:off x="7656480" y="3940200"/>
            <a:ext cx="300600" cy="496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2" name="Oval 23"/>
          <p:cNvSpPr/>
          <p:nvPr/>
        </p:nvSpPr>
        <p:spPr>
          <a:xfrm>
            <a:off x="2556000" y="2637000"/>
            <a:ext cx="576000" cy="431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53" name="AutoShape 24"/>
          <p:cNvCxnSpPr>
            <a:stCxn id="552" idx="3"/>
            <a:endCxn id="532" idx="7"/>
          </p:cNvCxnSpPr>
          <p:nvPr/>
        </p:nvCxnSpPr>
        <p:spPr>
          <a:xfrm flipH="1">
            <a:off x="2039040" y="3004920"/>
            <a:ext cx="60084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25"/>
          <p:cNvCxnSpPr>
            <a:stCxn id="552" idx="5"/>
            <a:endCxn id="537" idx="1"/>
          </p:cNvCxnSpPr>
          <p:nvPr/>
        </p:nvCxnSpPr>
        <p:spPr>
          <a:xfrm>
            <a:off x="3048120" y="3005280"/>
            <a:ext cx="529200" cy="63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Oval 26"/>
          <p:cNvSpPr/>
          <p:nvPr/>
        </p:nvSpPr>
        <p:spPr>
          <a:xfrm>
            <a:off x="6288120" y="2637000"/>
            <a:ext cx="576360" cy="43164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56" name="AutoShape 27"/>
          <p:cNvCxnSpPr>
            <a:stCxn id="555" idx="3"/>
          </p:cNvCxnSpPr>
          <p:nvPr/>
        </p:nvCxnSpPr>
        <p:spPr>
          <a:xfrm flipH="1">
            <a:off x="5771520" y="3004920"/>
            <a:ext cx="600840" cy="63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57" name="AutoShape 28"/>
          <p:cNvCxnSpPr>
            <a:stCxn id="555" idx="5"/>
          </p:cNvCxnSpPr>
          <p:nvPr/>
        </p:nvCxnSpPr>
        <p:spPr>
          <a:xfrm>
            <a:off x="6780240" y="3005280"/>
            <a:ext cx="529200" cy="6307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8" name="Oval 29"/>
          <p:cNvSpPr/>
          <p:nvPr/>
        </p:nvSpPr>
        <p:spPr>
          <a:xfrm>
            <a:off x="4427640" y="1484280"/>
            <a:ext cx="576000" cy="4320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cxnSp>
        <p:nvCxnSpPr>
          <p:cNvPr id="559" name="AutoShape 30"/>
          <p:cNvCxnSpPr>
            <a:endCxn id="552" idx="7"/>
          </p:cNvCxnSpPr>
          <p:nvPr/>
        </p:nvCxnSpPr>
        <p:spPr>
          <a:xfrm flipH="1">
            <a:off x="3047760" y="1844280"/>
            <a:ext cx="1451520" cy="85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AutoShape 31"/>
          <p:cNvCxnSpPr>
            <a:endCxn id="555" idx="1"/>
          </p:cNvCxnSpPr>
          <p:nvPr/>
        </p:nvCxnSpPr>
        <p:spPr>
          <a:xfrm>
            <a:off x="4906440" y="1844280"/>
            <a:ext cx="1466280" cy="85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3"/>
          <p:cNvSpPr/>
          <p:nvPr/>
        </p:nvSpPr>
        <p:spPr>
          <a:xfrm>
            <a:off x="7362000" y="650628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62" name="Slide Number Placeholder 4"/>
          <p:cNvSpPr/>
          <p:nvPr/>
        </p:nvSpPr>
        <p:spPr>
          <a:xfrm>
            <a:off x="2743200" y="655308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6B0B-CD7C-433A-AEBB-F929116AAAA1}" type="slidenum">
              <a:rPr b="0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ycle Check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15328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igh space complexity, only useful with breadth first sear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8200" indent="-2682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is an additional issue when we are looking for an optimal solution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th uniform-cost search, we still find an optimal solution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808200" indent="-2620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Lucida Sans Unicode"/>
              </a:rPr>
              <a:t>The first time uniform-cost expands a state it has found the minimal cost path to it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s means that the nodes rejected by cycle checking can’t have better path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544680" indent="-2746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e will see later that we don’t always have this property when we do heuristic search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D3B2-79A8-4731-AB85-7E76F0AB7DEF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nt to hike the Cockpit Country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20" name="Picture 3" descr="Map Of Jamaica 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1946520"/>
          </a:xfrm>
          <a:prstGeom prst="rect">
            <a:avLst/>
          </a:prstGeom>
          <a:ln w="0">
            <a:noFill/>
          </a:ln>
        </p:spPr>
      </p:pic>
      <p:sp>
        <p:nvSpPr>
          <p:cNvPr id="121" name="Oval 4"/>
          <p:cNvSpPr/>
          <p:nvPr/>
        </p:nvSpPr>
        <p:spPr>
          <a:xfrm>
            <a:off x="1295280" y="1981080"/>
            <a:ext cx="304920" cy="228600"/>
          </a:xfrm>
          <a:prstGeom prst="ellipse">
            <a:avLst/>
          </a:prstGeom>
          <a:solidFill>
            <a:srgbClr val="618ff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22" name="Picture 7" descr="CockpitCountryM20031013AS"/>
          <p:cNvPicPr/>
          <p:nvPr/>
        </p:nvPicPr>
        <p:blipFill>
          <a:blip r:embed="rId2"/>
          <a:stretch/>
        </p:blipFill>
        <p:spPr>
          <a:xfrm>
            <a:off x="4648320" y="1219320"/>
            <a:ext cx="4190760" cy="333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228600" y="38098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roads, need local guide and supplie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6156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4BEF-9514-4CFD-ABEA-97469BFB6B6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all 2018 Yves Lesperance &amp; Fahiem Bacchus</a:t>
            </a:r>
            <a:endParaRPr b="0" lang="en-US" sz="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094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asier goal, climb to the top of Blue Mountain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27" name="Picture 3" descr="Map Of Jamaica 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1946520"/>
          </a:xfrm>
          <a:prstGeom prst="rect">
            <a:avLst/>
          </a:prstGeom>
          <a:ln w="0">
            <a:noFill/>
          </a:ln>
        </p:spPr>
      </p:pic>
      <p:sp>
        <p:nvSpPr>
          <p:cNvPr id="128" name="Oval 4"/>
          <p:cNvSpPr/>
          <p:nvPr/>
        </p:nvSpPr>
        <p:spPr>
          <a:xfrm>
            <a:off x="2743200" y="2286000"/>
            <a:ext cx="304920" cy="228600"/>
          </a:xfrm>
          <a:prstGeom prst="ellipse">
            <a:avLst/>
          </a:prstGeom>
          <a:solidFill>
            <a:srgbClr val="618ff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4747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28600" y="3429000"/>
            <a:ext cx="44956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ar Kingston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ganized hikes availabl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ed to arrive on the peak at dawn, before the fog sets in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n get some Blue Mountain coffee!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30" name="Picture 9" descr="bluemtn1"/>
          <p:cNvPicPr/>
          <p:nvPr/>
        </p:nvPicPr>
        <p:blipFill>
          <a:blip r:embed="rId2"/>
          <a:stretch/>
        </p:blipFill>
        <p:spPr>
          <a:xfrm>
            <a:off x="4800600" y="1600200"/>
            <a:ext cx="38098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5:31:46Z</dcterms:created>
  <dc:creator>Craig Boutilier</dc:creator>
  <dc:description/>
  <dc:language>en-US</dc:language>
  <cp:lastModifiedBy>Yves Lesperance</cp:lastModifiedBy>
  <cp:lastPrinted>2017-03-16T15:49:10Z</cp:lastPrinted>
  <dcterms:modified xsi:type="dcterms:W3CDTF">2018-10-27T22:00:34Z</dcterms:modified>
  <cp:revision>141</cp:revision>
  <dc:subject/>
  <dc:title>CSC384: Intro to Artificial Intelligence</dc:title>
</cp:coreProperties>
</file>